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LAP.WAV" ContentType="audio/x-wav"/>
  <Override PartName="/ppt/media/DRIVEBY.WAV" ContentType="audio/x-wav"/>
  <Override PartName="/ppt/media/CARBRAKE.WAV" ContentType="audio/x-wav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F9F8-058C-4655-81A0-9B2DD1B7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1CEF-A6B4-43A2-B3FA-7AC8F8B2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B65A-6CA4-49BE-93E9-E05205F2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95EF-4BE8-4868-8381-BE35B66F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C0A9-FFC9-4B50-BA73-CF2B54D4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8F3-F9A5-4F44-8EE7-5E0672BC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3F9A-4FA6-4EDA-A1D3-4BFF358C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6E77-E0CD-4B91-95A7-ECABA92E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75E4-C67A-47F3-BF0E-F36EF597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D78-CEE3-41DF-A93B-FBC18880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6B1-B7C9-482A-A021-4E1101E7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CF15-4D9E-4BDF-A795-C1B26B6E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6386-6CD8-461F-8037-E3A579C15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 Ma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on Chapters 1 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 2 Find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517920" y="4316400"/>
                <a:ext cx="10414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2057400" y="4495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 s.f.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578480" y="4321080"/>
                <a:ext cx="10951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2819520" y="5257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0.75 × 20 = 15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43000" y="1523880"/>
            <a:ext cx="7238880" cy="1983240"/>
            <a:chOff x="1143000" y="1523880"/>
            <a:chExt cx="7238880" cy="1983240"/>
          </a:xfrm>
        </p:grpSpPr>
        <p:sp>
          <p:nvSpPr>
            <p:cNvPr id="226" name=""/>
            <p:cNvSpPr/>
            <p:nvPr/>
          </p:nvSpPr>
          <p:spPr>
            <a:xfrm>
              <a:off x="2590920" y="310824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0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29400" y="310824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05520" y="22860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6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1905120"/>
              <a:ext cx="2514600" cy="1143000"/>
            </a:xfrm>
            <a:prstGeom prst="rtTriangl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28800" y="1523880"/>
              <a:ext cx="2971800" cy="1524240"/>
            </a:xfrm>
            <a:prstGeom prst="rtTriangl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43000" y="21337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8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x to 1 d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752480" y="1143000"/>
            <a:ext cx="4419720" cy="3522960"/>
            <a:chOff x="1752480" y="1143000"/>
            <a:chExt cx="4419720" cy="3522960"/>
          </a:xfrm>
        </p:grpSpPr>
        <p:sp>
          <p:nvSpPr>
            <p:cNvPr id="234" name=""/>
            <p:cNvSpPr/>
            <p:nvPr/>
          </p:nvSpPr>
          <p:spPr>
            <a:xfrm>
              <a:off x="1752480" y="1143000"/>
              <a:ext cx="3353040" cy="3124080"/>
            </a:xfrm>
            <a:prstGeom prst="triangle">
              <a:avLst>
                <a:gd name="adj" fmla="val 73153"/>
              </a:avLst>
            </a:prstGeom>
            <a:solidFill>
              <a:srgbClr val="ff66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33720" y="1143000"/>
              <a:ext cx="2819160" cy="2590920"/>
            </a:xfrm>
            <a:prstGeom prst="triangle">
              <a:avLst>
                <a:gd name="adj" fmla="val 73153"/>
              </a:avLst>
            </a:prstGeom>
            <a:solidFill>
              <a:srgbClr val="ff66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8320" y="227016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0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52880" y="379404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52680" y="42670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 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76720" y="326088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2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52480" y="426708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09680" y="373392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38080" y="1143000"/>
            <a:ext cx="3353040" cy="3124080"/>
          </a:xfrm>
          <a:prstGeom prst="triangle">
            <a:avLst>
              <a:gd name="adj" fmla="val 73153"/>
            </a:avLst>
          </a:prstGeom>
          <a:solidFill>
            <a:srgbClr val="ff66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1143000"/>
            <a:ext cx="2819520" cy="2590920"/>
          </a:xfrm>
          <a:prstGeom prst="triangle">
            <a:avLst>
              <a:gd name="adj" fmla="val 73153"/>
            </a:avLst>
          </a:prstGeom>
          <a:solidFill>
            <a:srgbClr val="ff66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x to 1 d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86200" y="22701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2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91520" y="21178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4267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x 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67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2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52480" y="42670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365640" y="4951440"/>
                <a:ext cx="10411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1905120" y="5105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l s.f.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435560" y="4930920"/>
                <a:ext cx="104436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2666880" y="58672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1.1 × 12 = 13.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milar Areas and Volu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042920" y="4105440"/>
                <a:ext cx="187344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d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900000" y="4724280"/>
                <a:ext cx="21337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468360" y="1766880"/>
            <a:ext cx="8136000" cy="2670120"/>
            <a:chOff x="468360" y="1766880"/>
            <a:chExt cx="8136000" cy="2670120"/>
          </a:xfrm>
        </p:grpSpPr>
        <p:sp>
          <p:nvSpPr>
            <p:cNvPr id="258" name=""/>
            <p:cNvSpPr/>
            <p:nvPr/>
          </p:nvSpPr>
          <p:spPr>
            <a:xfrm>
              <a:off x="468360" y="176688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.g.1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.g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4360" y="2711520"/>
              <a:ext cx="814320" cy="495360"/>
            </a:xfrm>
            <a:custGeom>
              <a:avLst/>
              <a:gdLst/>
              <a:ahLst/>
              <a:rect l="l" t="t" r="r" b="b"/>
              <a:pathLst>
                <a:path w="513" h="312">
                  <a:moveTo>
                    <a:pt x="223" y="104"/>
                  </a:moveTo>
                  <a:cubicBezTo>
                    <a:pt x="201" y="70"/>
                    <a:pt x="184" y="63"/>
                    <a:pt x="146" y="51"/>
                  </a:cubicBezTo>
                  <a:cubicBezTo>
                    <a:pt x="77" y="60"/>
                    <a:pt x="32" y="73"/>
                    <a:pt x="8" y="143"/>
                  </a:cubicBezTo>
                  <a:cubicBezTo>
                    <a:pt x="14" y="201"/>
                    <a:pt x="0" y="239"/>
                    <a:pt x="54" y="258"/>
                  </a:cubicBezTo>
                  <a:cubicBezTo>
                    <a:pt x="104" y="247"/>
                    <a:pt x="151" y="235"/>
                    <a:pt x="200" y="220"/>
                  </a:cubicBezTo>
                  <a:cubicBezTo>
                    <a:pt x="221" y="252"/>
                    <a:pt x="224" y="273"/>
                    <a:pt x="231" y="312"/>
                  </a:cubicBezTo>
                  <a:cubicBezTo>
                    <a:pt x="284" y="301"/>
                    <a:pt x="321" y="266"/>
                    <a:pt x="369" y="243"/>
                  </a:cubicBezTo>
                  <a:cubicBezTo>
                    <a:pt x="386" y="225"/>
                    <a:pt x="405" y="213"/>
                    <a:pt x="423" y="197"/>
                  </a:cubicBezTo>
                  <a:cubicBezTo>
                    <a:pt x="437" y="185"/>
                    <a:pt x="461" y="158"/>
                    <a:pt x="461" y="158"/>
                  </a:cubicBezTo>
                  <a:cubicBezTo>
                    <a:pt x="479" y="106"/>
                    <a:pt x="513" y="51"/>
                    <a:pt x="438" y="28"/>
                  </a:cubicBezTo>
                  <a:cubicBezTo>
                    <a:pt x="398" y="0"/>
                    <a:pt x="359" y="17"/>
                    <a:pt x="315" y="28"/>
                  </a:cubicBezTo>
                  <a:cubicBezTo>
                    <a:pt x="278" y="52"/>
                    <a:pt x="254" y="73"/>
                    <a:pt x="223" y="104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50920" y="2276640"/>
              <a:ext cx="1535400" cy="1008000"/>
            </a:xfrm>
            <a:custGeom>
              <a:avLst/>
              <a:gdLst/>
              <a:ahLst/>
              <a:rect l="l" t="t" r="r" b="b"/>
              <a:pathLst>
                <a:path w="513" h="312">
                  <a:moveTo>
                    <a:pt x="223" y="104"/>
                  </a:moveTo>
                  <a:cubicBezTo>
                    <a:pt x="201" y="70"/>
                    <a:pt x="184" y="63"/>
                    <a:pt x="146" y="51"/>
                  </a:cubicBezTo>
                  <a:cubicBezTo>
                    <a:pt x="77" y="60"/>
                    <a:pt x="32" y="73"/>
                    <a:pt x="8" y="143"/>
                  </a:cubicBezTo>
                  <a:cubicBezTo>
                    <a:pt x="14" y="201"/>
                    <a:pt x="0" y="239"/>
                    <a:pt x="54" y="258"/>
                  </a:cubicBezTo>
                  <a:cubicBezTo>
                    <a:pt x="104" y="247"/>
                    <a:pt x="151" y="235"/>
                    <a:pt x="200" y="220"/>
                  </a:cubicBezTo>
                  <a:cubicBezTo>
                    <a:pt x="221" y="252"/>
                    <a:pt x="224" y="273"/>
                    <a:pt x="231" y="312"/>
                  </a:cubicBezTo>
                  <a:cubicBezTo>
                    <a:pt x="284" y="301"/>
                    <a:pt x="321" y="266"/>
                    <a:pt x="369" y="243"/>
                  </a:cubicBezTo>
                  <a:cubicBezTo>
                    <a:pt x="386" y="225"/>
                    <a:pt x="405" y="213"/>
                    <a:pt x="423" y="197"/>
                  </a:cubicBezTo>
                  <a:cubicBezTo>
                    <a:pt x="437" y="185"/>
                    <a:pt x="461" y="158"/>
                    <a:pt x="461" y="158"/>
                  </a:cubicBezTo>
                  <a:cubicBezTo>
                    <a:pt x="479" y="106"/>
                    <a:pt x="513" y="51"/>
                    <a:pt x="438" y="28"/>
                  </a:cubicBezTo>
                  <a:cubicBezTo>
                    <a:pt x="398" y="0"/>
                    <a:pt x="359" y="17"/>
                    <a:pt x="315" y="28"/>
                  </a:cubicBezTo>
                  <a:cubicBezTo>
                    <a:pt x="278" y="52"/>
                    <a:pt x="254" y="73"/>
                    <a:pt x="223" y="104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5002200" y="2708280"/>
              <a:ext cx="1225440" cy="1728720"/>
              <a:chOff x="5002200" y="2708280"/>
              <a:chExt cx="1225440" cy="1728720"/>
            </a:xfrm>
          </p:grpSpPr>
          <p:sp>
            <p:nvSpPr>
              <p:cNvPr id="262" name=""/>
              <p:cNvSpPr/>
              <p:nvPr/>
            </p:nvSpPr>
            <p:spPr>
              <a:xfrm>
                <a:off x="5002200" y="2708280"/>
                <a:ext cx="1224000" cy="172872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02200" y="2708280"/>
                <a:ext cx="1225440" cy="172872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7451640" y="3139920"/>
              <a:ext cx="865440" cy="1297080"/>
              <a:chOff x="7451640" y="3139920"/>
              <a:chExt cx="865440" cy="1297080"/>
            </a:xfrm>
          </p:grpSpPr>
          <p:sp>
            <p:nvSpPr>
              <p:cNvPr id="265" name=""/>
              <p:cNvSpPr/>
              <p:nvPr/>
            </p:nvSpPr>
            <p:spPr>
              <a:xfrm>
                <a:off x="7451640" y="3139920"/>
                <a:ext cx="864360" cy="129708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451640" y="3139920"/>
                <a:ext cx="865440" cy="129708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684360" y="342900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50920" y="342900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59280" y="2708280"/>
              <a:ext cx="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08720" y="3141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27280" y="342900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6920" y="342900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40000" y="256536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1m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6920" y="234936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?m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84720" y="342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2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04000" y="3645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91280" y="328464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?m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23280" y="357336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m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042920" y="5643720"/>
                <a:ext cx="1800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?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219640" y="4502160"/>
                <a:ext cx="19861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l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257800" y="5173560"/>
                <a:ext cx="21178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952880" y="5877000"/>
                <a:ext cx="2911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?</m:t>
                    </m:r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49480" y="399888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49480" y="514980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Scale Factor = k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54160" y="457524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 Scale factor  =  k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77920" y="57373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sing Length = 2.4 x 10 = 2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873600" y="5157720"/>
                <a:ext cx="12747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r>
                              <m:t xml:space="preserve"> 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88" name=""/>
          <p:cNvGrpSpPr/>
          <p:nvPr/>
        </p:nvGrpSpPr>
        <p:grpSpPr>
          <a:xfrm>
            <a:off x="762120" y="1190520"/>
            <a:ext cx="6590880" cy="2743200"/>
            <a:chOff x="762120" y="1190520"/>
            <a:chExt cx="6590880" cy="2743200"/>
          </a:xfrm>
        </p:grpSpPr>
        <p:sp>
          <p:nvSpPr>
            <p:cNvPr id="289" name=""/>
            <p:cNvSpPr/>
            <p:nvPr/>
          </p:nvSpPr>
          <p:spPr>
            <a:xfrm>
              <a:off x="4991040" y="3362040"/>
              <a:ext cx="9525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5400000">
              <a:off x="4690440" y="690120"/>
              <a:ext cx="1819440" cy="3505320"/>
            </a:xfrm>
            <a:custGeom>
              <a:avLst/>
              <a:gdLst>
                <a:gd name="textAreaLeft" fmla="*/ 88560 w 1819440"/>
                <a:gd name="textAreaRight" fmla="*/ 1730880 w 1819440"/>
                <a:gd name="textAreaTop" fmla="*/ 88560 h 3505320"/>
                <a:gd name="textAreaBottom" fmla="*/ 3416760 h 3505320"/>
              </a:gdLst>
              <a:ahLst/>
              <a:rect l="textAreaLeft" t="textAreaTop" r="textAreaRight" b="textAreaBottom"/>
              <a:pathLst>
                <a:path w="21600" h="41610">
                  <a:moveTo>
                    <a:pt x="3600" y="0"/>
                  </a:moveTo>
                  <a:arcTo wR="3600" hR="3600" stAng="16200000" swAng="-5400000"/>
                  <a:lnTo>
                    <a:pt x="0" y="38010"/>
                  </a:lnTo>
                  <a:arcTo wR="3600" hR="3600" stAng="10800000" swAng="-5400000"/>
                  <a:lnTo>
                    <a:pt x="18000" y="4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5120" y="2562120"/>
              <a:ext cx="914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10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5400000">
              <a:off x="1809720" y="1056600"/>
              <a:ext cx="1028880" cy="198144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981440"/>
                <a:gd name="textAreaBottom" fmla="*/ 1931400 h 1981440"/>
              </a:gdLst>
              <a:ahLst/>
              <a:rect l="textAreaLeft" t="textAreaTop" r="textAreaRight" b="textAreaBottom"/>
              <a:pathLst>
                <a:path w="21600" h="41591">
                  <a:moveTo>
                    <a:pt x="3600" y="0"/>
                  </a:moveTo>
                  <a:arcTo wR="3600" hR="3600" stAng="16200000" swAng="-5400000"/>
                  <a:lnTo>
                    <a:pt x="0" y="37991"/>
                  </a:lnTo>
                  <a:arcTo wR="3600" hR="3600" stAng="10800000" swAng="-5400000"/>
                  <a:lnTo>
                    <a:pt x="18000" y="415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90640" y="1876320"/>
              <a:ext cx="1257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25 c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76920" y="2219040"/>
              <a:ext cx="12189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144c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2120" y="119052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946680" y="4470480"/>
                <a:ext cx="1096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619280" y="260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missing dim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49480" y="364500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49480" y="414972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Scale Factor = k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16000" y="4724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 Scale factor  =  k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16000" y="5157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sing area = 9 x 30 = 270 c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805200" y="4056120"/>
                <a:ext cx="7081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03" name=""/>
          <p:cNvGrpSpPr/>
          <p:nvPr/>
        </p:nvGrpSpPr>
        <p:grpSpPr>
          <a:xfrm>
            <a:off x="838080" y="509760"/>
            <a:ext cx="6402600" cy="2393640"/>
            <a:chOff x="838080" y="509760"/>
            <a:chExt cx="6402600" cy="2393640"/>
          </a:xfrm>
        </p:grpSpPr>
        <p:grpSp>
          <p:nvGrpSpPr>
            <p:cNvPr id="304" name=""/>
            <p:cNvGrpSpPr/>
            <p:nvPr/>
          </p:nvGrpSpPr>
          <p:grpSpPr>
            <a:xfrm>
              <a:off x="4876920" y="509760"/>
              <a:ext cx="2363760" cy="2393640"/>
              <a:chOff x="4876920" y="509760"/>
              <a:chExt cx="2363760" cy="2393640"/>
            </a:xfrm>
          </p:grpSpPr>
          <p:sp>
            <p:nvSpPr>
              <p:cNvPr id="305" name=""/>
              <p:cNvSpPr/>
              <p:nvPr/>
            </p:nvSpPr>
            <p:spPr>
              <a:xfrm>
                <a:off x="4896000" y="528480"/>
                <a:ext cx="2325600" cy="2345040"/>
              </a:xfrm>
              <a:custGeom>
                <a:avLst/>
                <a:gdLst/>
                <a:ahLst/>
                <a:rect l="l" t="t" r="r" b="b"/>
                <a:pathLst>
                  <a:path w="2929" h="2954">
                    <a:moveTo>
                      <a:pt x="1468" y="298"/>
                    </a:moveTo>
                    <a:lnTo>
                      <a:pt x="1444" y="274"/>
                    </a:lnTo>
                    <a:lnTo>
                      <a:pt x="1416" y="248"/>
                    </a:lnTo>
                    <a:lnTo>
                      <a:pt x="1382" y="219"/>
                    </a:lnTo>
                    <a:lnTo>
                      <a:pt x="1348" y="191"/>
                    </a:lnTo>
                    <a:lnTo>
                      <a:pt x="1312" y="163"/>
                    </a:lnTo>
                    <a:lnTo>
                      <a:pt x="1277" y="139"/>
                    </a:lnTo>
                    <a:lnTo>
                      <a:pt x="1245" y="116"/>
                    </a:lnTo>
                    <a:lnTo>
                      <a:pt x="1215" y="99"/>
                    </a:lnTo>
                    <a:lnTo>
                      <a:pt x="1155" y="73"/>
                    </a:lnTo>
                    <a:lnTo>
                      <a:pt x="1096" y="51"/>
                    </a:lnTo>
                    <a:lnTo>
                      <a:pt x="1034" y="34"/>
                    </a:lnTo>
                    <a:lnTo>
                      <a:pt x="974" y="21"/>
                    </a:lnTo>
                    <a:lnTo>
                      <a:pt x="912" y="11"/>
                    </a:lnTo>
                    <a:lnTo>
                      <a:pt x="850" y="4"/>
                    </a:lnTo>
                    <a:lnTo>
                      <a:pt x="786" y="2"/>
                    </a:lnTo>
                    <a:lnTo>
                      <a:pt x="722" y="0"/>
                    </a:lnTo>
                    <a:lnTo>
                      <a:pt x="658" y="9"/>
                    </a:lnTo>
                    <a:lnTo>
                      <a:pt x="596" y="23"/>
                    </a:lnTo>
                    <a:lnTo>
                      <a:pt x="534" y="39"/>
                    </a:lnTo>
                    <a:lnTo>
                      <a:pt x="474" y="60"/>
                    </a:lnTo>
                    <a:lnTo>
                      <a:pt x="416" y="84"/>
                    </a:lnTo>
                    <a:lnTo>
                      <a:pt x="358" y="111"/>
                    </a:lnTo>
                    <a:lnTo>
                      <a:pt x="303" y="143"/>
                    </a:lnTo>
                    <a:lnTo>
                      <a:pt x="248" y="178"/>
                    </a:lnTo>
                    <a:lnTo>
                      <a:pt x="209" y="225"/>
                    </a:lnTo>
                    <a:lnTo>
                      <a:pt x="171" y="272"/>
                    </a:lnTo>
                    <a:lnTo>
                      <a:pt x="138" y="321"/>
                    </a:lnTo>
                    <a:lnTo>
                      <a:pt x="106" y="371"/>
                    </a:lnTo>
                    <a:lnTo>
                      <a:pt x="79" y="422"/>
                    </a:lnTo>
                    <a:lnTo>
                      <a:pt x="53" y="474"/>
                    </a:lnTo>
                    <a:lnTo>
                      <a:pt x="32" y="527"/>
                    </a:lnTo>
                    <a:lnTo>
                      <a:pt x="13" y="578"/>
                    </a:lnTo>
                    <a:lnTo>
                      <a:pt x="4" y="638"/>
                    </a:lnTo>
                    <a:lnTo>
                      <a:pt x="0" y="698"/>
                    </a:lnTo>
                    <a:lnTo>
                      <a:pt x="0" y="758"/>
                    </a:lnTo>
                    <a:lnTo>
                      <a:pt x="6" y="816"/>
                    </a:lnTo>
                    <a:lnTo>
                      <a:pt x="15" y="872"/>
                    </a:lnTo>
                    <a:lnTo>
                      <a:pt x="29" y="930"/>
                    </a:lnTo>
                    <a:lnTo>
                      <a:pt x="42" y="985"/>
                    </a:lnTo>
                    <a:lnTo>
                      <a:pt x="59" y="1039"/>
                    </a:lnTo>
                    <a:lnTo>
                      <a:pt x="1468" y="2954"/>
                    </a:lnTo>
                    <a:lnTo>
                      <a:pt x="2858" y="1039"/>
                    </a:lnTo>
                    <a:lnTo>
                      <a:pt x="2880" y="985"/>
                    </a:lnTo>
                    <a:lnTo>
                      <a:pt x="2899" y="930"/>
                    </a:lnTo>
                    <a:lnTo>
                      <a:pt x="2912" y="872"/>
                    </a:lnTo>
                    <a:lnTo>
                      <a:pt x="2922" y="816"/>
                    </a:lnTo>
                    <a:lnTo>
                      <a:pt x="2927" y="758"/>
                    </a:lnTo>
                    <a:lnTo>
                      <a:pt x="2929" y="698"/>
                    </a:lnTo>
                    <a:lnTo>
                      <a:pt x="2929" y="638"/>
                    </a:lnTo>
                    <a:lnTo>
                      <a:pt x="2923" y="578"/>
                    </a:lnTo>
                    <a:lnTo>
                      <a:pt x="2903" y="527"/>
                    </a:lnTo>
                    <a:lnTo>
                      <a:pt x="2878" y="474"/>
                    </a:lnTo>
                    <a:lnTo>
                      <a:pt x="2850" y="422"/>
                    </a:lnTo>
                    <a:lnTo>
                      <a:pt x="2820" y="371"/>
                    </a:lnTo>
                    <a:lnTo>
                      <a:pt x="2784" y="321"/>
                    </a:lnTo>
                    <a:lnTo>
                      <a:pt x="2749" y="272"/>
                    </a:lnTo>
                    <a:lnTo>
                      <a:pt x="2709" y="225"/>
                    </a:lnTo>
                    <a:lnTo>
                      <a:pt x="2670" y="178"/>
                    </a:lnTo>
                    <a:lnTo>
                      <a:pt x="2615" y="143"/>
                    </a:lnTo>
                    <a:lnTo>
                      <a:pt x="2559" y="111"/>
                    </a:lnTo>
                    <a:lnTo>
                      <a:pt x="2502" y="84"/>
                    </a:lnTo>
                    <a:lnTo>
                      <a:pt x="2446" y="60"/>
                    </a:lnTo>
                    <a:lnTo>
                      <a:pt x="2388" y="39"/>
                    </a:lnTo>
                    <a:lnTo>
                      <a:pt x="2329" y="23"/>
                    </a:lnTo>
                    <a:lnTo>
                      <a:pt x="2269" y="9"/>
                    </a:lnTo>
                    <a:lnTo>
                      <a:pt x="2211" y="0"/>
                    </a:lnTo>
                    <a:lnTo>
                      <a:pt x="2145" y="2"/>
                    </a:lnTo>
                    <a:lnTo>
                      <a:pt x="2081" y="4"/>
                    </a:lnTo>
                    <a:lnTo>
                      <a:pt x="2017" y="11"/>
                    </a:lnTo>
                    <a:lnTo>
                      <a:pt x="1953" y="21"/>
                    </a:lnTo>
                    <a:lnTo>
                      <a:pt x="1891" y="34"/>
                    </a:lnTo>
                    <a:lnTo>
                      <a:pt x="1833" y="51"/>
                    </a:lnTo>
                    <a:lnTo>
                      <a:pt x="1775" y="73"/>
                    </a:lnTo>
                    <a:lnTo>
                      <a:pt x="1720" y="99"/>
                    </a:lnTo>
                    <a:lnTo>
                      <a:pt x="1692" y="116"/>
                    </a:lnTo>
                    <a:lnTo>
                      <a:pt x="1658" y="139"/>
                    </a:lnTo>
                    <a:lnTo>
                      <a:pt x="1625" y="163"/>
                    </a:lnTo>
                    <a:lnTo>
                      <a:pt x="1589" y="191"/>
                    </a:lnTo>
                    <a:lnTo>
                      <a:pt x="1553" y="219"/>
                    </a:lnTo>
                    <a:lnTo>
                      <a:pt x="1521" y="248"/>
                    </a:lnTo>
                    <a:lnTo>
                      <a:pt x="1493" y="274"/>
                    </a:lnTo>
                    <a:lnTo>
                      <a:pt x="1468" y="2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876920" y="509760"/>
                <a:ext cx="2363760" cy="2393640"/>
              </a:xfrm>
              <a:custGeom>
                <a:avLst/>
                <a:gdLst/>
                <a:ahLst/>
                <a:rect l="l" t="t" r="r" b="b"/>
                <a:pathLst>
                  <a:path w="2978" h="3017">
                    <a:moveTo>
                      <a:pt x="1485" y="281"/>
                    </a:moveTo>
                    <a:lnTo>
                      <a:pt x="1457" y="255"/>
                    </a:lnTo>
                    <a:lnTo>
                      <a:pt x="1423" y="227"/>
                    </a:lnTo>
                    <a:lnTo>
                      <a:pt x="1389" y="198"/>
                    </a:lnTo>
                    <a:lnTo>
                      <a:pt x="1353" y="170"/>
                    </a:lnTo>
                    <a:lnTo>
                      <a:pt x="1318" y="146"/>
                    </a:lnTo>
                    <a:lnTo>
                      <a:pt x="1310" y="140"/>
                    </a:lnTo>
                    <a:lnTo>
                      <a:pt x="1278" y="120"/>
                    </a:lnTo>
                    <a:lnTo>
                      <a:pt x="1250" y="105"/>
                    </a:lnTo>
                    <a:lnTo>
                      <a:pt x="1246" y="101"/>
                    </a:lnTo>
                    <a:lnTo>
                      <a:pt x="1250" y="103"/>
                    </a:lnTo>
                    <a:lnTo>
                      <a:pt x="1188" y="75"/>
                    </a:lnTo>
                    <a:lnTo>
                      <a:pt x="1130" y="54"/>
                    </a:lnTo>
                    <a:lnTo>
                      <a:pt x="1068" y="35"/>
                    </a:lnTo>
                    <a:lnTo>
                      <a:pt x="1007" y="22"/>
                    </a:lnTo>
                    <a:lnTo>
                      <a:pt x="998" y="20"/>
                    </a:lnTo>
                    <a:lnTo>
                      <a:pt x="936" y="11"/>
                    </a:lnTo>
                    <a:lnTo>
                      <a:pt x="874" y="3"/>
                    </a:lnTo>
                    <a:lnTo>
                      <a:pt x="810" y="1"/>
                    </a:lnTo>
                    <a:lnTo>
                      <a:pt x="746" y="0"/>
                    </a:lnTo>
                    <a:lnTo>
                      <a:pt x="750" y="0"/>
                    </a:lnTo>
                    <a:lnTo>
                      <a:pt x="744" y="1"/>
                    </a:lnTo>
                    <a:lnTo>
                      <a:pt x="682" y="9"/>
                    </a:lnTo>
                    <a:lnTo>
                      <a:pt x="673" y="11"/>
                    </a:lnTo>
                    <a:lnTo>
                      <a:pt x="611" y="26"/>
                    </a:lnTo>
                    <a:lnTo>
                      <a:pt x="549" y="41"/>
                    </a:lnTo>
                    <a:lnTo>
                      <a:pt x="489" y="62"/>
                    </a:lnTo>
                    <a:lnTo>
                      <a:pt x="430" y="86"/>
                    </a:lnTo>
                    <a:lnTo>
                      <a:pt x="372" y="114"/>
                    </a:lnTo>
                    <a:lnTo>
                      <a:pt x="318" y="146"/>
                    </a:lnTo>
                    <a:lnTo>
                      <a:pt x="310" y="150"/>
                    </a:lnTo>
                    <a:lnTo>
                      <a:pt x="259" y="183"/>
                    </a:lnTo>
                    <a:lnTo>
                      <a:pt x="256" y="185"/>
                    </a:lnTo>
                    <a:lnTo>
                      <a:pt x="256" y="187"/>
                    </a:lnTo>
                    <a:lnTo>
                      <a:pt x="216" y="232"/>
                    </a:lnTo>
                    <a:lnTo>
                      <a:pt x="178" y="279"/>
                    </a:lnTo>
                    <a:lnTo>
                      <a:pt x="145" y="328"/>
                    </a:lnTo>
                    <a:lnTo>
                      <a:pt x="139" y="335"/>
                    </a:lnTo>
                    <a:lnTo>
                      <a:pt x="109" y="386"/>
                    </a:lnTo>
                    <a:lnTo>
                      <a:pt x="81" y="437"/>
                    </a:lnTo>
                    <a:lnTo>
                      <a:pt x="56" y="489"/>
                    </a:lnTo>
                    <a:lnTo>
                      <a:pt x="34" y="542"/>
                    </a:lnTo>
                    <a:lnTo>
                      <a:pt x="17" y="594"/>
                    </a:lnTo>
                    <a:lnTo>
                      <a:pt x="15" y="596"/>
                    </a:lnTo>
                    <a:lnTo>
                      <a:pt x="15" y="598"/>
                    </a:lnTo>
                    <a:lnTo>
                      <a:pt x="6" y="652"/>
                    </a:lnTo>
                    <a:lnTo>
                      <a:pt x="4" y="662"/>
                    </a:lnTo>
                    <a:lnTo>
                      <a:pt x="0" y="722"/>
                    </a:lnTo>
                    <a:lnTo>
                      <a:pt x="2" y="782"/>
                    </a:lnTo>
                    <a:lnTo>
                      <a:pt x="7" y="840"/>
                    </a:lnTo>
                    <a:lnTo>
                      <a:pt x="17" y="896"/>
                    </a:lnTo>
                    <a:lnTo>
                      <a:pt x="19" y="905"/>
                    </a:lnTo>
                    <a:lnTo>
                      <a:pt x="30" y="964"/>
                    </a:lnTo>
                    <a:lnTo>
                      <a:pt x="45" y="1018"/>
                    </a:lnTo>
                    <a:lnTo>
                      <a:pt x="62" y="1070"/>
                    </a:lnTo>
                    <a:lnTo>
                      <a:pt x="62" y="1074"/>
                    </a:lnTo>
                    <a:lnTo>
                      <a:pt x="64" y="1078"/>
                    </a:lnTo>
                    <a:lnTo>
                      <a:pt x="1474" y="2993"/>
                    </a:lnTo>
                    <a:lnTo>
                      <a:pt x="1492" y="3017"/>
                    </a:lnTo>
                    <a:lnTo>
                      <a:pt x="1511" y="2991"/>
                    </a:lnTo>
                    <a:lnTo>
                      <a:pt x="2900" y="1076"/>
                    </a:lnTo>
                    <a:lnTo>
                      <a:pt x="2902" y="1074"/>
                    </a:lnTo>
                    <a:lnTo>
                      <a:pt x="2902" y="1074"/>
                    </a:lnTo>
                    <a:lnTo>
                      <a:pt x="2925" y="1018"/>
                    </a:lnTo>
                    <a:lnTo>
                      <a:pt x="2944" y="964"/>
                    </a:lnTo>
                    <a:lnTo>
                      <a:pt x="2957" y="905"/>
                    </a:lnTo>
                    <a:lnTo>
                      <a:pt x="2959" y="896"/>
                    </a:lnTo>
                    <a:lnTo>
                      <a:pt x="2970" y="840"/>
                    </a:lnTo>
                    <a:lnTo>
                      <a:pt x="2976" y="782"/>
                    </a:lnTo>
                    <a:lnTo>
                      <a:pt x="2978" y="722"/>
                    </a:lnTo>
                    <a:lnTo>
                      <a:pt x="2976" y="662"/>
                    </a:lnTo>
                    <a:lnTo>
                      <a:pt x="2970" y="600"/>
                    </a:lnTo>
                    <a:lnTo>
                      <a:pt x="2970" y="594"/>
                    </a:lnTo>
                    <a:lnTo>
                      <a:pt x="2970" y="594"/>
                    </a:lnTo>
                    <a:lnTo>
                      <a:pt x="2949" y="542"/>
                    </a:lnTo>
                    <a:lnTo>
                      <a:pt x="2925" y="489"/>
                    </a:lnTo>
                    <a:lnTo>
                      <a:pt x="2897" y="437"/>
                    </a:lnTo>
                    <a:lnTo>
                      <a:pt x="2865" y="386"/>
                    </a:lnTo>
                    <a:lnTo>
                      <a:pt x="2861" y="378"/>
                    </a:lnTo>
                    <a:lnTo>
                      <a:pt x="2825" y="328"/>
                    </a:lnTo>
                    <a:lnTo>
                      <a:pt x="2790" y="279"/>
                    </a:lnTo>
                    <a:lnTo>
                      <a:pt x="2750" y="232"/>
                    </a:lnTo>
                    <a:lnTo>
                      <a:pt x="2711" y="187"/>
                    </a:lnTo>
                    <a:lnTo>
                      <a:pt x="2711" y="185"/>
                    </a:lnTo>
                    <a:lnTo>
                      <a:pt x="2707" y="183"/>
                    </a:lnTo>
                    <a:lnTo>
                      <a:pt x="2656" y="150"/>
                    </a:lnTo>
                    <a:lnTo>
                      <a:pt x="2649" y="146"/>
                    </a:lnTo>
                    <a:lnTo>
                      <a:pt x="2592" y="114"/>
                    </a:lnTo>
                    <a:lnTo>
                      <a:pt x="2536" y="86"/>
                    </a:lnTo>
                    <a:lnTo>
                      <a:pt x="2479" y="62"/>
                    </a:lnTo>
                    <a:lnTo>
                      <a:pt x="2421" y="41"/>
                    </a:lnTo>
                    <a:lnTo>
                      <a:pt x="2363" y="26"/>
                    </a:lnTo>
                    <a:lnTo>
                      <a:pt x="2303" y="11"/>
                    </a:lnTo>
                    <a:lnTo>
                      <a:pt x="2293" y="9"/>
                    </a:lnTo>
                    <a:lnTo>
                      <a:pt x="2239" y="1"/>
                    </a:lnTo>
                    <a:lnTo>
                      <a:pt x="2233" y="0"/>
                    </a:lnTo>
                    <a:lnTo>
                      <a:pt x="2235" y="0"/>
                    </a:lnTo>
                    <a:lnTo>
                      <a:pt x="2169" y="1"/>
                    </a:lnTo>
                    <a:lnTo>
                      <a:pt x="2105" y="3"/>
                    </a:lnTo>
                    <a:lnTo>
                      <a:pt x="2041" y="11"/>
                    </a:lnTo>
                    <a:lnTo>
                      <a:pt x="1977" y="20"/>
                    </a:lnTo>
                    <a:lnTo>
                      <a:pt x="1968" y="22"/>
                    </a:lnTo>
                    <a:lnTo>
                      <a:pt x="1906" y="35"/>
                    </a:lnTo>
                    <a:lnTo>
                      <a:pt x="1848" y="54"/>
                    </a:lnTo>
                    <a:lnTo>
                      <a:pt x="1790" y="75"/>
                    </a:lnTo>
                    <a:lnTo>
                      <a:pt x="1733" y="105"/>
                    </a:lnTo>
                    <a:lnTo>
                      <a:pt x="1707" y="120"/>
                    </a:lnTo>
                    <a:lnTo>
                      <a:pt x="1699" y="123"/>
                    </a:lnTo>
                    <a:lnTo>
                      <a:pt x="1665" y="146"/>
                    </a:lnTo>
                    <a:lnTo>
                      <a:pt x="1632" y="170"/>
                    </a:lnTo>
                    <a:lnTo>
                      <a:pt x="1596" y="198"/>
                    </a:lnTo>
                    <a:lnTo>
                      <a:pt x="1560" y="227"/>
                    </a:lnTo>
                    <a:lnTo>
                      <a:pt x="1528" y="255"/>
                    </a:lnTo>
                    <a:lnTo>
                      <a:pt x="1500" y="281"/>
                    </a:lnTo>
                    <a:lnTo>
                      <a:pt x="1476" y="307"/>
                    </a:lnTo>
                    <a:lnTo>
                      <a:pt x="1492" y="322"/>
                    </a:lnTo>
                    <a:lnTo>
                      <a:pt x="1509" y="307"/>
                    </a:lnTo>
                    <a:lnTo>
                      <a:pt x="1485" y="281"/>
                    </a:lnTo>
                    <a:close/>
                    <a:moveTo>
                      <a:pt x="1476" y="339"/>
                    </a:moveTo>
                    <a:lnTo>
                      <a:pt x="1492" y="356"/>
                    </a:lnTo>
                    <a:lnTo>
                      <a:pt x="1509" y="339"/>
                    </a:lnTo>
                    <a:lnTo>
                      <a:pt x="1534" y="315"/>
                    </a:lnTo>
                    <a:lnTo>
                      <a:pt x="1562" y="288"/>
                    </a:lnTo>
                    <a:lnTo>
                      <a:pt x="1594" y="260"/>
                    </a:lnTo>
                    <a:lnTo>
                      <a:pt x="1630" y="232"/>
                    </a:lnTo>
                    <a:lnTo>
                      <a:pt x="1665" y="204"/>
                    </a:lnTo>
                    <a:lnTo>
                      <a:pt x="1699" y="180"/>
                    </a:lnTo>
                    <a:lnTo>
                      <a:pt x="1733" y="157"/>
                    </a:lnTo>
                    <a:lnTo>
                      <a:pt x="1716" y="140"/>
                    </a:lnTo>
                    <a:lnTo>
                      <a:pt x="1726" y="163"/>
                    </a:lnTo>
                    <a:lnTo>
                      <a:pt x="1756" y="144"/>
                    </a:lnTo>
                    <a:lnTo>
                      <a:pt x="1808" y="118"/>
                    </a:lnTo>
                    <a:lnTo>
                      <a:pt x="1867" y="97"/>
                    </a:lnTo>
                    <a:lnTo>
                      <a:pt x="1925" y="78"/>
                    </a:lnTo>
                    <a:lnTo>
                      <a:pt x="1987" y="65"/>
                    </a:lnTo>
                    <a:lnTo>
                      <a:pt x="1977" y="45"/>
                    </a:lnTo>
                    <a:lnTo>
                      <a:pt x="1977" y="67"/>
                    </a:lnTo>
                    <a:lnTo>
                      <a:pt x="2041" y="58"/>
                    </a:lnTo>
                    <a:lnTo>
                      <a:pt x="2105" y="52"/>
                    </a:lnTo>
                    <a:lnTo>
                      <a:pt x="2169" y="48"/>
                    </a:lnTo>
                    <a:lnTo>
                      <a:pt x="2235" y="48"/>
                    </a:lnTo>
                    <a:lnTo>
                      <a:pt x="2235" y="24"/>
                    </a:lnTo>
                    <a:lnTo>
                      <a:pt x="2233" y="47"/>
                    </a:lnTo>
                    <a:lnTo>
                      <a:pt x="2293" y="58"/>
                    </a:lnTo>
                    <a:lnTo>
                      <a:pt x="2293" y="33"/>
                    </a:lnTo>
                    <a:lnTo>
                      <a:pt x="2284" y="56"/>
                    </a:lnTo>
                    <a:lnTo>
                      <a:pt x="2344" y="69"/>
                    </a:lnTo>
                    <a:lnTo>
                      <a:pt x="2402" y="84"/>
                    </a:lnTo>
                    <a:lnTo>
                      <a:pt x="2461" y="105"/>
                    </a:lnTo>
                    <a:lnTo>
                      <a:pt x="2517" y="129"/>
                    </a:lnTo>
                    <a:lnTo>
                      <a:pt x="2573" y="157"/>
                    </a:lnTo>
                    <a:lnTo>
                      <a:pt x="2630" y="189"/>
                    </a:lnTo>
                    <a:lnTo>
                      <a:pt x="2639" y="167"/>
                    </a:lnTo>
                    <a:lnTo>
                      <a:pt x="2622" y="183"/>
                    </a:lnTo>
                    <a:lnTo>
                      <a:pt x="2681" y="221"/>
                    </a:lnTo>
                    <a:lnTo>
                      <a:pt x="2694" y="202"/>
                    </a:lnTo>
                    <a:lnTo>
                      <a:pt x="2677" y="219"/>
                    </a:lnTo>
                    <a:lnTo>
                      <a:pt x="2716" y="266"/>
                    </a:lnTo>
                    <a:lnTo>
                      <a:pt x="2756" y="313"/>
                    </a:lnTo>
                    <a:lnTo>
                      <a:pt x="2791" y="362"/>
                    </a:lnTo>
                    <a:lnTo>
                      <a:pt x="2827" y="412"/>
                    </a:lnTo>
                    <a:lnTo>
                      <a:pt x="2844" y="395"/>
                    </a:lnTo>
                    <a:lnTo>
                      <a:pt x="2822" y="405"/>
                    </a:lnTo>
                    <a:lnTo>
                      <a:pt x="2853" y="455"/>
                    </a:lnTo>
                    <a:lnTo>
                      <a:pt x="2882" y="508"/>
                    </a:lnTo>
                    <a:lnTo>
                      <a:pt x="2906" y="560"/>
                    </a:lnTo>
                    <a:lnTo>
                      <a:pt x="2927" y="611"/>
                    </a:lnTo>
                    <a:lnTo>
                      <a:pt x="2947" y="602"/>
                    </a:lnTo>
                    <a:lnTo>
                      <a:pt x="2925" y="605"/>
                    </a:lnTo>
                    <a:lnTo>
                      <a:pt x="2929" y="662"/>
                    </a:lnTo>
                    <a:lnTo>
                      <a:pt x="2931" y="722"/>
                    </a:lnTo>
                    <a:lnTo>
                      <a:pt x="2929" y="782"/>
                    </a:lnTo>
                    <a:lnTo>
                      <a:pt x="2923" y="840"/>
                    </a:lnTo>
                    <a:lnTo>
                      <a:pt x="2912" y="896"/>
                    </a:lnTo>
                    <a:lnTo>
                      <a:pt x="2936" y="896"/>
                    </a:lnTo>
                    <a:lnTo>
                      <a:pt x="2914" y="887"/>
                    </a:lnTo>
                    <a:lnTo>
                      <a:pt x="2900" y="945"/>
                    </a:lnTo>
                    <a:lnTo>
                      <a:pt x="2882" y="999"/>
                    </a:lnTo>
                    <a:lnTo>
                      <a:pt x="2861" y="1054"/>
                    </a:lnTo>
                    <a:lnTo>
                      <a:pt x="2882" y="1063"/>
                    </a:lnTo>
                    <a:lnTo>
                      <a:pt x="2863" y="1050"/>
                    </a:lnTo>
                    <a:lnTo>
                      <a:pt x="1474" y="2964"/>
                    </a:lnTo>
                    <a:lnTo>
                      <a:pt x="1492" y="2978"/>
                    </a:lnTo>
                    <a:lnTo>
                      <a:pt x="1511" y="2964"/>
                    </a:lnTo>
                    <a:lnTo>
                      <a:pt x="101" y="1050"/>
                    </a:lnTo>
                    <a:lnTo>
                      <a:pt x="83" y="1063"/>
                    </a:lnTo>
                    <a:lnTo>
                      <a:pt x="105" y="1055"/>
                    </a:lnTo>
                    <a:lnTo>
                      <a:pt x="88" y="999"/>
                    </a:lnTo>
                    <a:lnTo>
                      <a:pt x="73" y="945"/>
                    </a:lnTo>
                    <a:lnTo>
                      <a:pt x="62" y="887"/>
                    </a:lnTo>
                    <a:lnTo>
                      <a:pt x="39" y="896"/>
                    </a:lnTo>
                    <a:lnTo>
                      <a:pt x="64" y="896"/>
                    </a:lnTo>
                    <a:lnTo>
                      <a:pt x="54" y="840"/>
                    </a:lnTo>
                    <a:lnTo>
                      <a:pt x="49" y="782"/>
                    </a:lnTo>
                    <a:lnTo>
                      <a:pt x="47" y="722"/>
                    </a:lnTo>
                    <a:lnTo>
                      <a:pt x="51" y="662"/>
                    </a:lnTo>
                    <a:lnTo>
                      <a:pt x="28" y="662"/>
                    </a:lnTo>
                    <a:lnTo>
                      <a:pt x="49" y="671"/>
                    </a:lnTo>
                    <a:lnTo>
                      <a:pt x="60" y="607"/>
                    </a:lnTo>
                    <a:lnTo>
                      <a:pt x="37" y="602"/>
                    </a:lnTo>
                    <a:lnTo>
                      <a:pt x="60" y="609"/>
                    </a:lnTo>
                    <a:lnTo>
                      <a:pt x="77" y="560"/>
                    </a:lnTo>
                    <a:lnTo>
                      <a:pt x="100" y="508"/>
                    </a:lnTo>
                    <a:lnTo>
                      <a:pt x="124" y="455"/>
                    </a:lnTo>
                    <a:lnTo>
                      <a:pt x="152" y="405"/>
                    </a:lnTo>
                    <a:lnTo>
                      <a:pt x="182" y="354"/>
                    </a:lnTo>
                    <a:lnTo>
                      <a:pt x="162" y="345"/>
                    </a:lnTo>
                    <a:lnTo>
                      <a:pt x="178" y="362"/>
                    </a:lnTo>
                    <a:lnTo>
                      <a:pt x="212" y="313"/>
                    </a:lnTo>
                    <a:lnTo>
                      <a:pt x="250" y="266"/>
                    </a:lnTo>
                    <a:lnTo>
                      <a:pt x="289" y="219"/>
                    </a:lnTo>
                    <a:lnTo>
                      <a:pt x="272" y="202"/>
                    </a:lnTo>
                    <a:lnTo>
                      <a:pt x="286" y="221"/>
                    </a:lnTo>
                    <a:lnTo>
                      <a:pt x="344" y="183"/>
                    </a:lnTo>
                    <a:lnTo>
                      <a:pt x="327" y="167"/>
                    </a:lnTo>
                    <a:lnTo>
                      <a:pt x="336" y="189"/>
                    </a:lnTo>
                    <a:lnTo>
                      <a:pt x="391" y="157"/>
                    </a:lnTo>
                    <a:lnTo>
                      <a:pt x="449" y="129"/>
                    </a:lnTo>
                    <a:lnTo>
                      <a:pt x="507" y="105"/>
                    </a:lnTo>
                    <a:lnTo>
                      <a:pt x="568" y="84"/>
                    </a:lnTo>
                    <a:lnTo>
                      <a:pt x="630" y="69"/>
                    </a:lnTo>
                    <a:lnTo>
                      <a:pt x="692" y="56"/>
                    </a:lnTo>
                    <a:lnTo>
                      <a:pt x="682" y="33"/>
                    </a:lnTo>
                    <a:lnTo>
                      <a:pt x="682" y="58"/>
                    </a:lnTo>
                    <a:lnTo>
                      <a:pt x="750" y="47"/>
                    </a:lnTo>
                    <a:lnTo>
                      <a:pt x="746" y="24"/>
                    </a:lnTo>
                    <a:lnTo>
                      <a:pt x="746" y="48"/>
                    </a:lnTo>
                    <a:lnTo>
                      <a:pt x="810" y="48"/>
                    </a:lnTo>
                    <a:lnTo>
                      <a:pt x="874" y="52"/>
                    </a:lnTo>
                    <a:lnTo>
                      <a:pt x="936" y="58"/>
                    </a:lnTo>
                    <a:lnTo>
                      <a:pt x="998" y="67"/>
                    </a:lnTo>
                    <a:lnTo>
                      <a:pt x="998" y="45"/>
                    </a:lnTo>
                    <a:lnTo>
                      <a:pt x="989" y="65"/>
                    </a:lnTo>
                    <a:lnTo>
                      <a:pt x="1049" y="78"/>
                    </a:lnTo>
                    <a:lnTo>
                      <a:pt x="1111" y="97"/>
                    </a:lnTo>
                    <a:lnTo>
                      <a:pt x="1169" y="118"/>
                    </a:lnTo>
                    <a:lnTo>
                      <a:pt x="1229" y="144"/>
                    </a:lnTo>
                    <a:lnTo>
                      <a:pt x="1239" y="123"/>
                    </a:lnTo>
                    <a:lnTo>
                      <a:pt x="1227" y="144"/>
                    </a:lnTo>
                    <a:lnTo>
                      <a:pt x="1259" y="163"/>
                    </a:lnTo>
                    <a:lnTo>
                      <a:pt x="1291" y="183"/>
                    </a:lnTo>
                    <a:lnTo>
                      <a:pt x="1301" y="163"/>
                    </a:lnTo>
                    <a:lnTo>
                      <a:pt x="1284" y="180"/>
                    </a:lnTo>
                    <a:lnTo>
                      <a:pt x="1320" y="204"/>
                    </a:lnTo>
                    <a:lnTo>
                      <a:pt x="1355" y="232"/>
                    </a:lnTo>
                    <a:lnTo>
                      <a:pt x="1389" y="260"/>
                    </a:lnTo>
                    <a:lnTo>
                      <a:pt x="1423" y="288"/>
                    </a:lnTo>
                    <a:lnTo>
                      <a:pt x="1451" y="315"/>
                    </a:lnTo>
                    <a:lnTo>
                      <a:pt x="1476" y="3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2971800" y="1905120"/>
              <a:ext cx="917280" cy="887040"/>
              <a:chOff x="2971800" y="1905120"/>
              <a:chExt cx="917280" cy="887040"/>
            </a:xfrm>
          </p:grpSpPr>
          <p:sp>
            <p:nvSpPr>
              <p:cNvPr id="308" name=""/>
              <p:cNvSpPr/>
              <p:nvPr/>
            </p:nvSpPr>
            <p:spPr>
              <a:xfrm>
                <a:off x="2994120" y="1928520"/>
                <a:ext cx="869760" cy="824400"/>
              </a:xfrm>
              <a:custGeom>
                <a:avLst/>
                <a:gdLst/>
                <a:ahLst/>
                <a:rect l="l" t="t" r="r" b="b"/>
                <a:pathLst>
                  <a:path w="837" h="844">
                    <a:moveTo>
                      <a:pt x="420" y="86"/>
                    </a:moveTo>
                    <a:lnTo>
                      <a:pt x="414" y="79"/>
                    </a:lnTo>
                    <a:lnTo>
                      <a:pt x="405" y="71"/>
                    </a:lnTo>
                    <a:lnTo>
                      <a:pt x="386" y="54"/>
                    </a:lnTo>
                    <a:lnTo>
                      <a:pt x="365" y="39"/>
                    </a:lnTo>
                    <a:lnTo>
                      <a:pt x="348" y="28"/>
                    </a:lnTo>
                    <a:lnTo>
                      <a:pt x="314" y="15"/>
                    </a:lnTo>
                    <a:lnTo>
                      <a:pt x="279" y="6"/>
                    </a:lnTo>
                    <a:lnTo>
                      <a:pt x="243" y="2"/>
                    </a:lnTo>
                    <a:lnTo>
                      <a:pt x="207" y="0"/>
                    </a:lnTo>
                    <a:lnTo>
                      <a:pt x="172" y="6"/>
                    </a:lnTo>
                    <a:lnTo>
                      <a:pt x="136" y="17"/>
                    </a:lnTo>
                    <a:lnTo>
                      <a:pt x="102" y="32"/>
                    </a:lnTo>
                    <a:lnTo>
                      <a:pt x="72" y="51"/>
                    </a:lnTo>
                    <a:lnTo>
                      <a:pt x="49" y="79"/>
                    </a:lnTo>
                    <a:lnTo>
                      <a:pt x="31" y="107"/>
                    </a:lnTo>
                    <a:lnTo>
                      <a:pt x="16" y="135"/>
                    </a:lnTo>
                    <a:lnTo>
                      <a:pt x="4" y="165"/>
                    </a:lnTo>
                    <a:lnTo>
                      <a:pt x="0" y="201"/>
                    </a:lnTo>
                    <a:lnTo>
                      <a:pt x="2" y="234"/>
                    </a:lnTo>
                    <a:lnTo>
                      <a:pt x="8" y="266"/>
                    </a:lnTo>
                    <a:lnTo>
                      <a:pt x="17" y="296"/>
                    </a:lnTo>
                    <a:lnTo>
                      <a:pt x="420" y="844"/>
                    </a:lnTo>
                    <a:lnTo>
                      <a:pt x="816" y="296"/>
                    </a:lnTo>
                    <a:lnTo>
                      <a:pt x="828" y="266"/>
                    </a:lnTo>
                    <a:lnTo>
                      <a:pt x="835" y="234"/>
                    </a:lnTo>
                    <a:lnTo>
                      <a:pt x="837" y="201"/>
                    </a:lnTo>
                    <a:lnTo>
                      <a:pt x="835" y="165"/>
                    </a:lnTo>
                    <a:lnTo>
                      <a:pt x="822" y="135"/>
                    </a:lnTo>
                    <a:lnTo>
                      <a:pt x="805" y="107"/>
                    </a:lnTo>
                    <a:lnTo>
                      <a:pt x="786" y="79"/>
                    </a:lnTo>
                    <a:lnTo>
                      <a:pt x="764" y="51"/>
                    </a:lnTo>
                    <a:lnTo>
                      <a:pt x="732" y="32"/>
                    </a:lnTo>
                    <a:lnTo>
                      <a:pt x="700" y="17"/>
                    </a:lnTo>
                    <a:lnTo>
                      <a:pt x="666" y="6"/>
                    </a:lnTo>
                    <a:lnTo>
                      <a:pt x="632" y="0"/>
                    </a:lnTo>
                    <a:lnTo>
                      <a:pt x="595" y="2"/>
                    </a:lnTo>
                    <a:lnTo>
                      <a:pt x="559" y="6"/>
                    </a:lnTo>
                    <a:lnTo>
                      <a:pt x="525" y="15"/>
                    </a:lnTo>
                    <a:lnTo>
                      <a:pt x="493" y="28"/>
                    </a:lnTo>
                    <a:lnTo>
                      <a:pt x="474" y="39"/>
                    </a:lnTo>
                    <a:lnTo>
                      <a:pt x="454" y="54"/>
                    </a:lnTo>
                    <a:lnTo>
                      <a:pt x="435" y="71"/>
                    </a:lnTo>
                    <a:lnTo>
                      <a:pt x="427" y="79"/>
                    </a:lnTo>
                    <a:lnTo>
                      <a:pt x="420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71800" y="1905120"/>
                <a:ext cx="917280" cy="887040"/>
              </a:xfrm>
              <a:custGeom>
                <a:avLst/>
                <a:gdLst/>
                <a:ahLst/>
                <a:rect l="l" t="t" r="r" b="b"/>
                <a:pathLst>
                  <a:path w="883" h="905">
                    <a:moveTo>
                      <a:pt x="453" y="84"/>
                    </a:moveTo>
                    <a:lnTo>
                      <a:pt x="444" y="76"/>
                    </a:lnTo>
                    <a:lnTo>
                      <a:pt x="425" y="60"/>
                    </a:lnTo>
                    <a:lnTo>
                      <a:pt x="404" y="45"/>
                    </a:lnTo>
                    <a:lnTo>
                      <a:pt x="397" y="41"/>
                    </a:lnTo>
                    <a:lnTo>
                      <a:pt x="382" y="30"/>
                    </a:lnTo>
                    <a:lnTo>
                      <a:pt x="383" y="31"/>
                    </a:lnTo>
                    <a:lnTo>
                      <a:pt x="382" y="30"/>
                    </a:lnTo>
                    <a:lnTo>
                      <a:pt x="346" y="15"/>
                    </a:lnTo>
                    <a:lnTo>
                      <a:pt x="310" y="7"/>
                    </a:lnTo>
                    <a:lnTo>
                      <a:pt x="301" y="5"/>
                    </a:lnTo>
                    <a:lnTo>
                      <a:pt x="265" y="0"/>
                    </a:lnTo>
                    <a:lnTo>
                      <a:pt x="229" y="0"/>
                    </a:lnTo>
                    <a:lnTo>
                      <a:pt x="231" y="0"/>
                    </a:lnTo>
                    <a:lnTo>
                      <a:pt x="227" y="0"/>
                    </a:lnTo>
                    <a:lnTo>
                      <a:pt x="194" y="5"/>
                    </a:lnTo>
                    <a:lnTo>
                      <a:pt x="184" y="7"/>
                    </a:lnTo>
                    <a:lnTo>
                      <a:pt x="148" y="18"/>
                    </a:lnTo>
                    <a:lnTo>
                      <a:pt x="115" y="31"/>
                    </a:lnTo>
                    <a:lnTo>
                      <a:pt x="107" y="37"/>
                    </a:lnTo>
                    <a:lnTo>
                      <a:pt x="81" y="54"/>
                    </a:lnTo>
                    <a:lnTo>
                      <a:pt x="77" y="56"/>
                    </a:lnTo>
                    <a:lnTo>
                      <a:pt x="77" y="58"/>
                    </a:lnTo>
                    <a:lnTo>
                      <a:pt x="54" y="84"/>
                    </a:lnTo>
                    <a:lnTo>
                      <a:pt x="51" y="91"/>
                    </a:lnTo>
                    <a:lnTo>
                      <a:pt x="32" y="120"/>
                    </a:lnTo>
                    <a:lnTo>
                      <a:pt x="17" y="148"/>
                    </a:lnTo>
                    <a:lnTo>
                      <a:pt x="6" y="180"/>
                    </a:lnTo>
                    <a:lnTo>
                      <a:pt x="4" y="181"/>
                    </a:lnTo>
                    <a:lnTo>
                      <a:pt x="4" y="183"/>
                    </a:lnTo>
                    <a:lnTo>
                      <a:pt x="0" y="223"/>
                    </a:lnTo>
                    <a:lnTo>
                      <a:pt x="2" y="256"/>
                    </a:lnTo>
                    <a:lnTo>
                      <a:pt x="7" y="288"/>
                    </a:lnTo>
                    <a:lnTo>
                      <a:pt x="9" y="298"/>
                    </a:lnTo>
                    <a:lnTo>
                      <a:pt x="19" y="326"/>
                    </a:lnTo>
                    <a:lnTo>
                      <a:pt x="19" y="330"/>
                    </a:lnTo>
                    <a:lnTo>
                      <a:pt x="21" y="333"/>
                    </a:lnTo>
                    <a:lnTo>
                      <a:pt x="423" y="881"/>
                    </a:lnTo>
                    <a:lnTo>
                      <a:pt x="442" y="905"/>
                    </a:lnTo>
                    <a:lnTo>
                      <a:pt x="460" y="879"/>
                    </a:lnTo>
                    <a:lnTo>
                      <a:pt x="857" y="331"/>
                    </a:lnTo>
                    <a:lnTo>
                      <a:pt x="859" y="330"/>
                    </a:lnTo>
                    <a:lnTo>
                      <a:pt x="859" y="330"/>
                    </a:lnTo>
                    <a:lnTo>
                      <a:pt x="872" y="298"/>
                    </a:lnTo>
                    <a:lnTo>
                      <a:pt x="878" y="266"/>
                    </a:lnTo>
                    <a:lnTo>
                      <a:pt x="880" y="256"/>
                    </a:lnTo>
                    <a:lnTo>
                      <a:pt x="883" y="223"/>
                    </a:lnTo>
                    <a:lnTo>
                      <a:pt x="880" y="185"/>
                    </a:lnTo>
                    <a:lnTo>
                      <a:pt x="880" y="181"/>
                    </a:lnTo>
                    <a:lnTo>
                      <a:pt x="880" y="180"/>
                    </a:lnTo>
                    <a:lnTo>
                      <a:pt x="867" y="148"/>
                    </a:lnTo>
                    <a:lnTo>
                      <a:pt x="850" y="120"/>
                    </a:lnTo>
                    <a:lnTo>
                      <a:pt x="844" y="112"/>
                    </a:lnTo>
                    <a:lnTo>
                      <a:pt x="825" y="84"/>
                    </a:lnTo>
                    <a:lnTo>
                      <a:pt x="804" y="58"/>
                    </a:lnTo>
                    <a:lnTo>
                      <a:pt x="803" y="56"/>
                    </a:lnTo>
                    <a:lnTo>
                      <a:pt x="799" y="54"/>
                    </a:lnTo>
                    <a:lnTo>
                      <a:pt x="771" y="37"/>
                    </a:lnTo>
                    <a:lnTo>
                      <a:pt x="763" y="31"/>
                    </a:lnTo>
                    <a:lnTo>
                      <a:pt x="731" y="18"/>
                    </a:lnTo>
                    <a:lnTo>
                      <a:pt x="697" y="7"/>
                    </a:lnTo>
                    <a:lnTo>
                      <a:pt x="688" y="5"/>
                    </a:lnTo>
                    <a:lnTo>
                      <a:pt x="658" y="0"/>
                    </a:lnTo>
                    <a:lnTo>
                      <a:pt x="652" y="0"/>
                    </a:lnTo>
                    <a:lnTo>
                      <a:pt x="654" y="0"/>
                    </a:lnTo>
                    <a:lnTo>
                      <a:pt x="617" y="0"/>
                    </a:lnTo>
                    <a:lnTo>
                      <a:pt x="581" y="5"/>
                    </a:lnTo>
                    <a:lnTo>
                      <a:pt x="571" y="7"/>
                    </a:lnTo>
                    <a:lnTo>
                      <a:pt x="538" y="15"/>
                    </a:lnTo>
                    <a:lnTo>
                      <a:pt x="504" y="31"/>
                    </a:lnTo>
                    <a:lnTo>
                      <a:pt x="515" y="50"/>
                    </a:lnTo>
                    <a:lnTo>
                      <a:pt x="504" y="30"/>
                    </a:lnTo>
                    <a:lnTo>
                      <a:pt x="487" y="41"/>
                    </a:lnTo>
                    <a:lnTo>
                      <a:pt x="479" y="45"/>
                    </a:lnTo>
                    <a:lnTo>
                      <a:pt x="459" y="60"/>
                    </a:lnTo>
                    <a:lnTo>
                      <a:pt x="440" y="76"/>
                    </a:lnTo>
                    <a:lnTo>
                      <a:pt x="432" y="84"/>
                    </a:lnTo>
                    <a:lnTo>
                      <a:pt x="425" y="95"/>
                    </a:lnTo>
                    <a:lnTo>
                      <a:pt x="442" y="108"/>
                    </a:lnTo>
                    <a:lnTo>
                      <a:pt x="460" y="95"/>
                    </a:lnTo>
                    <a:lnTo>
                      <a:pt x="453" y="84"/>
                    </a:lnTo>
                    <a:close/>
                    <a:moveTo>
                      <a:pt x="425" y="123"/>
                    </a:moveTo>
                    <a:lnTo>
                      <a:pt x="442" y="142"/>
                    </a:lnTo>
                    <a:lnTo>
                      <a:pt x="460" y="123"/>
                    </a:lnTo>
                    <a:lnTo>
                      <a:pt x="466" y="118"/>
                    </a:lnTo>
                    <a:lnTo>
                      <a:pt x="474" y="110"/>
                    </a:lnTo>
                    <a:lnTo>
                      <a:pt x="492" y="93"/>
                    </a:lnTo>
                    <a:lnTo>
                      <a:pt x="513" y="78"/>
                    </a:lnTo>
                    <a:lnTo>
                      <a:pt x="496" y="61"/>
                    </a:lnTo>
                    <a:lnTo>
                      <a:pt x="506" y="84"/>
                    </a:lnTo>
                    <a:lnTo>
                      <a:pt x="526" y="71"/>
                    </a:lnTo>
                    <a:lnTo>
                      <a:pt x="532" y="67"/>
                    </a:lnTo>
                    <a:lnTo>
                      <a:pt x="526" y="71"/>
                    </a:lnTo>
                    <a:lnTo>
                      <a:pt x="556" y="58"/>
                    </a:lnTo>
                    <a:lnTo>
                      <a:pt x="590" y="50"/>
                    </a:lnTo>
                    <a:lnTo>
                      <a:pt x="581" y="28"/>
                    </a:lnTo>
                    <a:lnTo>
                      <a:pt x="581" y="52"/>
                    </a:lnTo>
                    <a:lnTo>
                      <a:pt x="617" y="46"/>
                    </a:lnTo>
                    <a:lnTo>
                      <a:pt x="654" y="46"/>
                    </a:lnTo>
                    <a:lnTo>
                      <a:pt x="654" y="22"/>
                    </a:lnTo>
                    <a:lnTo>
                      <a:pt x="652" y="45"/>
                    </a:lnTo>
                    <a:lnTo>
                      <a:pt x="688" y="52"/>
                    </a:lnTo>
                    <a:lnTo>
                      <a:pt x="688" y="28"/>
                    </a:lnTo>
                    <a:lnTo>
                      <a:pt x="679" y="50"/>
                    </a:lnTo>
                    <a:lnTo>
                      <a:pt x="712" y="61"/>
                    </a:lnTo>
                    <a:lnTo>
                      <a:pt x="744" y="75"/>
                    </a:lnTo>
                    <a:lnTo>
                      <a:pt x="754" y="54"/>
                    </a:lnTo>
                    <a:lnTo>
                      <a:pt x="737" y="71"/>
                    </a:lnTo>
                    <a:lnTo>
                      <a:pt x="773" y="91"/>
                    </a:lnTo>
                    <a:lnTo>
                      <a:pt x="786" y="73"/>
                    </a:lnTo>
                    <a:lnTo>
                      <a:pt x="769" y="88"/>
                    </a:lnTo>
                    <a:lnTo>
                      <a:pt x="791" y="118"/>
                    </a:lnTo>
                    <a:lnTo>
                      <a:pt x="810" y="146"/>
                    </a:lnTo>
                    <a:lnTo>
                      <a:pt x="827" y="129"/>
                    </a:lnTo>
                    <a:lnTo>
                      <a:pt x="806" y="138"/>
                    </a:lnTo>
                    <a:lnTo>
                      <a:pt x="823" y="166"/>
                    </a:lnTo>
                    <a:lnTo>
                      <a:pt x="836" y="195"/>
                    </a:lnTo>
                    <a:lnTo>
                      <a:pt x="857" y="187"/>
                    </a:lnTo>
                    <a:lnTo>
                      <a:pt x="835" y="191"/>
                    </a:lnTo>
                    <a:lnTo>
                      <a:pt x="836" y="223"/>
                    </a:lnTo>
                    <a:lnTo>
                      <a:pt x="833" y="256"/>
                    </a:lnTo>
                    <a:lnTo>
                      <a:pt x="857" y="256"/>
                    </a:lnTo>
                    <a:lnTo>
                      <a:pt x="835" y="247"/>
                    </a:lnTo>
                    <a:lnTo>
                      <a:pt x="829" y="279"/>
                    </a:lnTo>
                    <a:lnTo>
                      <a:pt x="818" y="309"/>
                    </a:lnTo>
                    <a:lnTo>
                      <a:pt x="838" y="318"/>
                    </a:lnTo>
                    <a:lnTo>
                      <a:pt x="820" y="305"/>
                    </a:lnTo>
                    <a:lnTo>
                      <a:pt x="423" y="853"/>
                    </a:lnTo>
                    <a:lnTo>
                      <a:pt x="442" y="866"/>
                    </a:lnTo>
                    <a:lnTo>
                      <a:pt x="460" y="853"/>
                    </a:lnTo>
                    <a:lnTo>
                      <a:pt x="58" y="305"/>
                    </a:lnTo>
                    <a:lnTo>
                      <a:pt x="39" y="318"/>
                    </a:lnTo>
                    <a:lnTo>
                      <a:pt x="62" y="311"/>
                    </a:lnTo>
                    <a:lnTo>
                      <a:pt x="53" y="279"/>
                    </a:lnTo>
                    <a:lnTo>
                      <a:pt x="30" y="288"/>
                    </a:lnTo>
                    <a:lnTo>
                      <a:pt x="54" y="288"/>
                    </a:lnTo>
                    <a:lnTo>
                      <a:pt x="49" y="256"/>
                    </a:lnTo>
                    <a:lnTo>
                      <a:pt x="47" y="223"/>
                    </a:lnTo>
                    <a:lnTo>
                      <a:pt x="49" y="193"/>
                    </a:lnTo>
                    <a:lnTo>
                      <a:pt x="26" y="187"/>
                    </a:lnTo>
                    <a:lnTo>
                      <a:pt x="49" y="195"/>
                    </a:lnTo>
                    <a:lnTo>
                      <a:pt x="60" y="166"/>
                    </a:lnTo>
                    <a:lnTo>
                      <a:pt x="75" y="138"/>
                    </a:lnTo>
                    <a:lnTo>
                      <a:pt x="94" y="110"/>
                    </a:lnTo>
                    <a:lnTo>
                      <a:pt x="71" y="101"/>
                    </a:lnTo>
                    <a:lnTo>
                      <a:pt x="88" y="118"/>
                    </a:lnTo>
                    <a:lnTo>
                      <a:pt x="111" y="90"/>
                    </a:lnTo>
                    <a:lnTo>
                      <a:pt x="94" y="73"/>
                    </a:lnTo>
                    <a:lnTo>
                      <a:pt x="107" y="91"/>
                    </a:lnTo>
                    <a:lnTo>
                      <a:pt x="141" y="71"/>
                    </a:lnTo>
                    <a:lnTo>
                      <a:pt x="124" y="54"/>
                    </a:lnTo>
                    <a:lnTo>
                      <a:pt x="133" y="75"/>
                    </a:lnTo>
                    <a:lnTo>
                      <a:pt x="167" y="61"/>
                    </a:lnTo>
                    <a:lnTo>
                      <a:pt x="203" y="50"/>
                    </a:lnTo>
                    <a:lnTo>
                      <a:pt x="194" y="28"/>
                    </a:lnTo>
                    <a:lnTo>
                      <a:pt x="194" y="52"/>
                    </a:lnTo>
                    <a:lnTo>
                      <a:pt x="233" y="45"/>
                    </a:lnTo>
                    <a:lnTo>
                      <a:pt x="229" y="22"/>
                    </a:lnTo>
                    <a:lnTo>
                      <a:pt x="229" y="46"/>
                    </a:lnTo>
                    <a:lnTo>
                      <a:pt x="265" y="46"/>
                    </a:lnTo>
                    <a:lnTo>
                      <a:pt x="301" y="52"/>
                    </a:lnTo>
                    <a:lnTo>
                      <a:pt x="301" y="28"/>
                    </a:lnTo>
                    <a:lnTo>
                      <a:pt x="291" y="50"/>
                    </a:lnTo>
                    <a:lnTo>
                      <a:pt x="327" y="58"/>
                    </a:lnTo>
                    <a:lnTo>
                      <a:pt x="361" y="71"/>
                    </a:lnTo>
                    <a:lnTo>
                      <a:pt x="370" y="50"/>
                    </a:lnTo>
                    <a:lnTo>
                      <a:pt x="359" y="71"/>
                    </a:lnTo>
                    <a:lnTo>
                      <a:pt x="378" y="84"/>
                    </a:lnTo>
                    <a:lnTo>
                      <a:pt x="387" y="61"/>
                    </a:lnTo>
                    <a:lnTo>
                      <a:pt x="370" y="78"/>
                    </a:lnTo>
                    <a:lnTo>
                      <a:pt x="391" y="93"/>
                    </a:lnTo>
                    <a:lnTo>
                      <a:pt x="410" y="110"/>
                    </a:lnTo>
                    <a:lnTo>
                      <a:pt x="419" y="118"/>
                    </a:lnTo>
                    <a:lnTo>
                      <a:pt x="425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3268800" y="2225520"/>
              <a:ext cx="6728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46360" y="639720"/>
              <a:ext cx="6728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95840" y="1065240"/>
              <a:ext cx="7844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15360" y="1163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89960" y="1163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41680" y="2314440"/>
              <a:ext cx="6732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2514600" y="2128680"/>
              <a:ext cx="144360" cy="223920"/>
              <a:chOff x="2514600" y="2128680"/>
              <a:chExt cx="144360" cy="223920"/>
            </a:xfrm>
          </p:grpSpPr>
          <p:sp>
            <p:nvSpPr>
              <p:cNvPr id="317" name=""/>
              <p:cNvSpPr/>
              <p:nvPr/>
            </p:nvSpPr>
            <p:spPr>
              <a:xfrm>
                <a:off x="2571840" y="2268360"/>
                <a:ext cx="28440" cy="84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514600" y="2128680"/>
                <a:ext cx="144360" cy="142920"/>
              </a:xfrm>
              <a:custGeom>
                <a:avLst/>
                <a:gdLst/>
                <a:ahLst/>
                <a:rect l="l" t="t" r="r" b="b"/>
                <a:pathLst>
                  <a:path w="182" h="180">
                    <a:moveTo>
                      <a:pt x="182" y="180"/>
                    </a:moveTo>
                    <a:lnTo>
                      <a:pt x="90" y="0"/>
                    </a:lnTo>
                    <a:lnTo>
                      <a:pt x="0" y="180"/>
                    </a:lnTo>
                    <a:lnTo>
                      <a:pt x="182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2514600" y="2538360"/>
              <a:ext cx="144360" cy="222480"/>
              <a:chOff x="2514600" y="2538360"/>
              <a:chExt cx="144360" cy="222480"/>
            </a:xfrm>
          </p:grpSpPr>
          <p:sp>
            <p:nvSpPr>
              <p:cNvPr id="320" name=""/>
              <p:cNvSpPr/>
              <p:nvPr/>
            </p:nvSpPr>
            <p:spPr>
              <a:xfrm>
                <a:off x="2573280" y="2538360"/>
                <a:ext cx="28440" cy="8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514600" y="2617920"/>
                <a:ext cx="144360" cy="142920"/>
              </a:xfrm>
              <a:custGeom>
                <a:avLst/>
                <a:gdLst/>
                <a:ahLst/>
                <a:rect l="l" t="t" r="r" b="b"/>
                <a:pathLst>
                  <a:path w="182" h="180">
                    <a:moveTo>
                      <a:pt x="0" y="0"/>
                    </a:moveTo>
                    <a:lnTo>
                      <a:pt x="92" y="180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471920" y="528480"/>
              <a:ext cx="144360" cy="1005120"/>
              <a:chOff x="4471920" y="528480"/>
              <a:chExt cx="144360" cy="1005120"/>
            </a:xfrm>
          </p:grpSpPr>
          <p:sp>
            <p:nvSpPr>
              <p:cNvPr id="323" name=""/>
              <p:cNvSpPr/>
              <p:nvPr/>
            </p:nvSpPr>
            <p:spPr>
              <a:xfrm>
                <a:off x="4530600" y="668160"/>
                <a:ext cx="28800" cy="86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71920" y="528480"/>
                <a:ext cx="144360" cy="142920"/>
              </a:xfrm>
              <a:custGeom>
                <a:avLst/>
                <a:gdLst/>
                <a:ahLst/>
                <a:rect l="l" t="t" r="r" b="b"/>
                <a:pathLst>
                  <a:path w="183" h="180">
                    <a:moveTo>
                      <a:pt x="183" y="180"/>
                    </a:moveTo>
                    <a:lnTo>
                      <a:pt x="91" y="0"/>
                    </a:lnTo>
                    <a:lnTo>
                      <a:pt x="0" y="180"/>
                    </a:lnTo>
                    <a:lnTo>
                      <a:pt x="183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4470480" y="1868400"/>
              <a:ext cx="144360" cy="1005120"/>
              <a:chOff x="4470480" y="1868400"/>
              <a:chExt cx="144360" cy="1005120"/>
            </a:xfrm>
          </p:grpSpPr>
          <p:sp>
            <p:nvSpPr>
              <p:cNvPr id="326" name=""/>
              <p:cNvSpPr/>
              <p:nvPr/>
            </p:nvSpPr>
            <p:spPr>
              <a:xfrm>
                <a:off x="4530600" y="1868400"/>
                <a:ext cx="28800" cy="86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470480" y="2730600"/>
                <a:ext cx="144360" cy="142920"/>
              </a:xfrm>
              <a:custGeom>
                <a:avLst/>
                <a:gdLst/>
                <a:ahLst/>
                <a:rect l="l" t="t" r="r" b="b"/>
                <a:pathLst>
                  <a:path w="182" h="180">
                    <a:moveTo>
                      <a:pt x="0" y="0"/>
                    </a:moveTo>
                    <a:lnTo>
                      <a:pt x="92" y="180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4164120" y="1511280"/>
              <a:ext cx="6728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752480" y="213372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48120" y="19810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30c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62720" y="11430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? cm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09880" y="144792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5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8080" y="53352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43000" y="3645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9480" y="414972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Scale Factor = k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43000" y="4724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 Scale factor  =  k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16000" y="5157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sing area = 4 x 80 = 320 m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789360" y="4056120"/>
                <a:ext cx="7412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39" name=""/>
          <p:cNvGrpSpPr/>
          <p:nvPr/>
        </p:nvGrpSpPr>
        <p:grpSpPr>
          <a:xfrm>
            <a:off x="914400" y="419040"/>
            <a:ext cx="6438960" cy="2857680"/>
            <a:chOff x="914400" y="419040"/>
            <a:chExt cx="6438960" cy="2857680"/>
          </a:xfrm>
        </p:grpSpPr>
        <p:sp>
          <p:nvSpPr>
            <p:cNvPr id="340" name=""/>
            <p:cNvSpPr/>
            <p:nvPr/>
          </p:nvSpPr>
          <p:spPr>
            <a:xfrm>
              <a:off x="1562040" y="419040"/>
              <a:ext cx="3073320" cy="2363760"/>
            </a:xfrm>
            <a:prstGeom prst="hexagon">
              <a:avLst>
                <a:gd name="adj" fmla="val 32505"/>
                <a:gd name="vf" fmla="val 11547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91320" y="2286000"/>
              <a:ext cx="1066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15 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43200" y="2743200"/>
              <a:ext cx="1143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30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90920" y="1333440"/>
              <a:ext cx="12189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14400" y="533520"/>
              <a:ext cx="571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34120" y="990720"/>
              <a:ext cx="1536480" cy="1181160"/>
            </a:xfrm>
            <a:prstGeom prst="hexagon">
              <a:avLst>
                <a:gd name="adj" fmla="val 32521"/>
                <a:gd name="vf" fmla="val 11547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86400" y="1333440"/>
              <a:ext cx="18669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80 m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3962520" y="4724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225440" y="40640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19320" y="456876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Scale Factor = k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16080" y="52722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 Scale factor  =  k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16080" y="59436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sing are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924360" y="4475160"/>
                <a:ext cx="7412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53" name=""/>
          <p:cNvGrpSpPr/>
          <p:nvPr/>
        </p:nvGrpSpPr>
        <p:grpSpPr>
          <a:xfrm>
            <a:off x="762120" y="233280"/>
            <a:ext cx="7277040" cy="3729240"/>
            <a:chOff x="762120" y="233280"/>
            <a:chExt cx="7277040" cy="3729240"/>
          </a:xfrm>
        </p:grpSpPr>
        <p:sp>
          <p:nvSpPr>
            <p:cNvPr id="354" name=""/>
            <p:cNvSpPr/>
            <p:nvPr/>
          </p:nvSpPr>
          <p:spPr>
            <a:xfrm>
              <a:off x="762120" y="233280"/>
              <a:ext cx="95256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43200" y="404640"/>
              <a:ext cx="4286160" cy="270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4480" y="457200"/>
              <a:ext cx="1714680" cy="104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38960" y="838080"/>
              <a:ext cx="14097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? mm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24080" y="1506600"/>
              <a:ext cx="1486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540 m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62640" y="1706400"/>
              <a:ext cx="1587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743200" y="3409920"/>
              <a:ext cx="444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05720" y="1806480"/>
              <a:ext cx="95256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6 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14800" y="3510000"/>
              <a:ext cx="12574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18 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114800" y="5105520"/>
                <a:ext cx="8319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200400" y="5840280"/>
                <a:ext cx="16635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54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9480" y="373392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49480" y="489096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Scale Factor = k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54160" y="4205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 Scale factor  =  k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92320" y="557676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sing Length = 0.3125 x 7.5 = 2.3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962520" y="4906800"/>
                <a:ext cx="207000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765625</m:t>
                            </m:r>
                            <m:r>
                              <m:t xml:space="preserve"> 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25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3944880" y="4087800"/>
                <a:ext cx="17701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09765625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1" name=""/>
          <p:cNvGrpSpPr/>
          <p:nvPr/>
        </p:nvGrpSpPr>
        <p:grpSpPr>
          <a:xfrm>
            <a:off x="990720" y="609480"/>
            <a:ext cx="6019560" cy="2895840"/>
            <a:chOff x="990720" y="609480"/>
            <a:chExt cx="6019560" cy="2895840"/>
          </a:xfrm>
        </p:grpSpPr>
        <p:sp>
          <p:nvSpPr>
            <p:cNvPr id="372" name=""/>
            <p:cNvSpPr/>
            <p:nvPr/>
          </p:nvSpPr>
          <p:spPr>
            <a:xfrm>
              <a:off x="5295960" y="1181160"/>
              <a:ext cx="1714320" cy="914400"/>
            </a:xfrm>
            <a:prstGeom prst="parallelogram">
              <a:avLst>
                <a:gd name="adj" fmla="val 46870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09760" y="952560"/>
              <a:ext cx="3429000" cy="1828800"/>
            </a:xfrm>
            <a:prstGeom prst="parallelogram">
              <a:avLst>
                <a:gd name="adj" fmla="val 46875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90720" y="60948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91320" y="1447920"/>
              <a:ext cx="12189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5 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95480" y="1638360"/>
              <a:ext cx="12193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5.12 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95960" y="2324160"/>
              <a:ext cx="1714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09760" y="3009960"/>
              <a:ext cx="3314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67280" y="2324160"/>
              <a:ext cx="8002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?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81360" y="3009960"/>
              <a:ext cx="10285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7·5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042920" y="3645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49480" y="420516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Scale Factor = k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16000" y="4815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lume Scale factor  =  k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16000" y="542448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sing Volume = 20 x 4.096 = 81.92c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3970440" y="4087800"/>
                <a:ext cx="8301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86" name=""/>
          <p:cNvGrpSpPr/>
          <p:nvPr/>
        </p:nvGrpSpPr>
        <p:grpSpPr>
          <a:xfrm>
            <a:off x="914400" y="533520"/>
            <a:ext cx="5943600" cy="2440800"/>
            <a:chOff x="914400" y="533520"/>
            <a:chExt cx="5943600" cy="2440800"/>
          </a:xfrm>
        </p:grpSpPr>
        <p:grpSp>
          <p:nvGrpSpPr>
            <p:cNvPr id="387" name=""/>
            <p:cNvGrpSpPr/>
            <p:nvPr/>
          </p:nvGrpSpPr>
          <p:grpSpPr>
            <a:xfrm>
              <a:off x="1600200" y="1066680"/>
              <a:ext cx="5257800" cy="1907640"/>
              <a:chOff x="1600200" y="1066680"/>
              <a:chExt cx="5257800" cy="1907640"/>
            </a:xfrm>
          </p:grpSpPr>
          <p:sp>
            <p:nvSpPr>
              <p:cNvPr id="388" name=""/>
              <p:cNvSpPr/>
              <p:nvPr/>
            </p:nvSpPr>
            <p:spPr>
              <a:xfrm>
                <a:off x="1600200" y="1523880"/>
                <a:ext cx="1752480" cy="99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648320" y="1066680"/>
                <a:ext cx="2209680" cy="1447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133720" y="24382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486400" y="25146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8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828800" y="175248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V= 20cm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029200" y="160020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V=  x cm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914400" y="533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4235400" y="4702320"/>
                <a:ext cx="20131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8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  <m:r>
                                  <m:t xml:space="preserve"> 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6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32040" y="25779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02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8480" y="2571840"/>
            <a:ext cx="19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0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32080" y="351792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48240" y="351144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7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27360" y="433692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1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3440" y="43308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000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27400" y="527688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000070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43560" y="527040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.04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Form/Scientific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75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7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7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75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75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75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7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tance Spee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352680" y="1890720"/>
            <a:ext cx="2447640" cy="2530080"/>
            <a:chOff x="3352680" y="1890720"/>
            <a:chExt cx="2447640" cy="2530080"/>
          </a:xfrm>
        </p:grpSpPr>
        <p:sp>
          <p:nvSpPr>
            <p:cNvPr id="398" name=""/>
            <p:cNvSpPr/>
            <p:nvPr/>
          </p:nvSpPr>
          <p:spPr>
            <a:xfrm>
              <a:off x="3352680" y="1890720"/>
              <a:ext cx="2447640" cy="24480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14560" y="340380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20880" y="3394080"/>
              <a:ext cx="14400" cy="9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68520" y="2490840"/>
              <a:ext cx="730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54080" y="3595680"/>
              <a:ext cx="730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28960" y="3586320"/>
              <a:ext cx="730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1744560" y="4375080"/>
            <a:ext cx="13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1430280" y="4910040"/>
                <a:ext cx="13240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3757680" y="4930920"/>
                <a:ext cx="13240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872320" y="5249880"/>
                <a:ext cx="1944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80880" y="3808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STARTER 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6324480" y="609480"/>
                <a:ext cx="800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5759280" y="1371600"/>
                <a:ext cx="22687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796000" y="2276640"/>
                <a:ext cx="938160" cy="31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804000" y="2349360"/>
                <a:ext cx="525600" cy="2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620640" y="2570040"/>
                <a:ext cx="77796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357120" y="3375000"/>
                <a:ext cx="31352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2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2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55760" y="4254480"/>
                <a:ext cx="8017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281240" y="4267080"/>
                <a:ext cx="6620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m/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53352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a.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D = 2km  and S = 5m/s       T=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76520" y="2819520"/>
            <a:ext cx="68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b.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D = 272km  and  T = 4 hrs 15 mins     S =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47242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c.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T = 3mins  and  S = 4m/s       D =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897600" y="4232160"/>
                <a:ext cx="91440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6256440" y="4979880"/>
                <a:ext cx="21556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394320" y="5562720"/>
                <a:ext cx="19209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792840" y="6006960"/>
                <a:ext cx="11890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0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us leaves the airport at 19.24 and arrives in 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ty centre at 20.11. If the journey is 17 mil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e its average speed in mph to 1 decima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125360" y="3213000"/>
                <a:ext cx="932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395440" y="3200400"/>
                <a:ext cx="14907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min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4162320" y="3187800"/>
                <a:ext cx="21621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m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  <m:r>
                              <m:t xml:space="preserve">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473880" y="3213000"/>
                <a:ext cx="13748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m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83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48120" y="4952880"/>
                <a:ext cx="29718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mph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8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8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8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8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0880" y="228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Stewart drove 40 km from Laurencekirk to the golf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course in Montrose. If he averaged 72km/h calculate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the time of his journey to the nearest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562040" y="1600200"/>
                <a:ext cx="800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481040" y="2341440"/>
                <a:ext cx="14907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m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059280" y="2492280"/>
                <a:ext cx="14857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  <m:sup/>
                    </m:sSup>
                    <m:r>
                      <m:rPr>
                        <m:lit/>
                        <m:nor/>
                      </m:rPr>
                      <m:t xml:space="preserve">hr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648320" y="2492280"/>
                <a:ext cx="26096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/>
                    </m:sSup>
                    <m:r>
                      <m:rPr>
                        <m:lit/>
                        <m:nor/>
                      </m:rPr>
                      <m:t xml:space="preserve">  min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min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6586560" y="1359000"/>
            <a:ext cx="2023920" cy="5461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533520" y="352116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Mr Sim drove to Dover in the holidays. He left at 06.30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and arrived at 14.15. If he averaged 70mph, how far did he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tra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963880" y="4724280"/>
                <a:ext cx="11206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×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2666880" y="5105520"/>
                <a:ext cx="309240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rPr>
                        <m:lit/>
                        <m:nor/>
                      </m:rPr>
                      <m:t xml:space="preserve">mph 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 7hrs 45 min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2595600" y="5427720"/>
                <a:ext cx="25909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rPr>
                        <m:lit/>
                        <m:nor/>
                      </m:rPr>
                      <m:t xml:space="preserve">mph 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 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 hr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617920" y="5791320"/>
                <a:ext cx="11919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884760" y="5780160"/>
                <a:ext cx="6872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le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6934320" y="4483080"/>
            <a:ext cx="1447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and  Negativ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lg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Rules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 and Neg  = Ne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 and Neg = 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1752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 +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5)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4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4 ×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4 ÷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95280" y="21337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2   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5     +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24987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2117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86600" y="2117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389556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3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1) +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7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42 ÷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7)  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6 +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15) ÷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1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ify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 and Neg  = Ne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 and Neg = 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1752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a +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5b)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4a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2a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+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3a)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4a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5a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95280" y="21337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2a   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5b     +  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95280" y="24987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6a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5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05520" y="2117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2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a   +  4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  5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387036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3x +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y)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5x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5m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3n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4m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105520" y="24987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6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+  2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1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ify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 and Neg  = Ne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 and Neg = Po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ying makes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1752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a × 3a × a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3c ×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) ×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c) × 4c ×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21337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765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419720" y="227016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9480" y="387036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 2y × 3y × y × y × y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m ×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5m) ×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7m) ×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52960" y="22701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07000" y="2235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1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y out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 and Neg  = Ne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 and Neg = Po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1752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–3(x + 4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– 4(2y – 3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–p(3 – p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219320" y="2133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3x –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14800" y="219384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8y +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387036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 –5(w + 2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3(2m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5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</a:rPr>
              <a:t>c.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</a:rPr>
              <a:t>3p(p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</a:rPr>
              <a:t> 4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53080" y="219384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–3p + p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500"/>
                            </p:stCondLst>
                            <p:childTnLst>
                              <p:par>
                                <p:cTn id="12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ify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 and Neg  = Ne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 and Neg = Po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752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 –3(x + 2) + 8           b.     2(y + 2) + 4(2y – 3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.    2p(4p – 3) – 3p(p – 3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2133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3x – 6 +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1337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2y  + 4   +   8y  –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248520" y="2133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8p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–  6p –  3p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9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86064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 2(3c – 5) + 4(2 + c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3(p – 4) – 2(p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5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24224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3x  +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249876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10y  –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248520" y="24987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5p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3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500"/>
                            </p:stCondLst>
                            <p:childTnLst>
                              <p:par>
                                <p:cTn id="126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rg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523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.  Change to standar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40687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.  Change to norma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21636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.   99000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2133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9.9 </a:t>
            </a:r>
            <a:r>
              <a:rPr b="0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46483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.   6.03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6.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6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60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603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77344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.  610400000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6.104 </a:t>
            </a:r>
            <a:r>
              <a:rPr b="0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3382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i. 5223000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33526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5.223 </a:t>
            </a:r>
            <a:r>
              <a:rPr b="0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51354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.  8.15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.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15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1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15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5668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i. 2.7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7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7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700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7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70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aluate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= 3, b = -2, c = -5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09480" y="160020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)    a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– b           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)     abc + 2c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)    b(2a – c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" y="19810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– (–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19810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3 × (–2) × (–5) + (–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09480" y="387036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)    4a + c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– b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b – 3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248520" y="19810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2(6 – (–5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62120" y="2286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9  +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200400" y="2346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30 –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248520" y="23464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2(6 +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62120" y="26510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200400" y="265104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27273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2(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248520" y="310824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1752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 5x + 2 = x + 26           b.     2(3y – 1) = 2y + 10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.    3m – 4 = –2(m – 4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2133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x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x = 26 –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200400" y="21337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y  –  2   =  2y +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387036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 7w + 2 = w + 14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3(2m – 1) = m + 16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248520" y="2133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m – 4 =  –2m +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516564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.    2(3c – 5) = 4(2 + c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d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3(p – 4) =  –2(p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5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24224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x       =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200400" y="24382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y  –  2y   =  10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012000" y="24987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m + 2m =   8 +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272736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x      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200400" y="27432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y           = 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30481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y           =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248520" y="2819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m       =    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324480" y="3124080"/>
            <a:ext cx="266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       =   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mal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1523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.  Change to standar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40687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.  Change to norma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21636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.   0.0039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133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3.9 </a:t>
            </a:r>
            <a:r>
              <a:rPr b="0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33cc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46483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.   3.07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46483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3.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46483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3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3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3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277344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.  0.000502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7432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5.02 </a:t>
            </a:r>
            <a:r>
              <a:rPr b="0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33cc"/>
                </a:solidFill>
                <a:latin typeface="Times New Roman"/>
              </a:rPr>
              <a:t>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3382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i. 0.0000004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33526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4 </a:t>
            </a:r>
            <a:r>
              <a:rPr b="0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33cc"/>
                </a:solidFill>
                <a:latin typeface="Times New Roman"/>
              </a:rPr>
              <a:t>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51354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.  5.91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5.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5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51354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5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51354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005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51354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5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51354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05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5668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i. 8.6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5668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5668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00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5668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5668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0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5668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732040" y="10065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07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8480" y="1000080"/>
            <a:ext cx="19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0 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32080" y="194616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57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48240" y="194004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57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7360" y="276552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1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3440" y="275904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27400" y="370512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70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43560" y="369900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.07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7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7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7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7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7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7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ions Non cal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66840" y="1457280"/>
                <a:ext cx="19015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348000" y="1378080"/>
                <a:ext cx="19447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207120" y="1366920"/>
                <a:ext cx="18208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15920" y="2565360"/>
                <a:ext cx="11797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3" name=""/>
          <p:cNvGrpSpPr/>
          <p:nvPr/>
        </p:nvGrpSpPr>
        <p:grpSpPr>
          <a:xfrm>
            <a:off x="885960" y="2468520"/>
            <a:ext cx="1454040" cy="1139040"/>
            <a:chOff x="885960" y="2468520"/>
            <a:chExt cx="1454040" cy="1139040"/>
          </a:xfrm>
        </p:grpSpPr>
        <p:sp>
          <p:nvSpPr>
            <p:cNvPr id="124" name=""/>
            <p:cNvSpPr/>
            <p:nvPr/>
          </p:nvSpPr>
          <p:spPr>
            <a:xfrm flipV="1">
              <a:off x="1068480" y="273024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751040" y="321444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85960" y="24685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79640" y="32702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900000" y="2444760"/>
            <a:ext cx="1656000" cy="1151640"/>
            <a:chOff x="900000" y="2444760"/>
            <a:chExt cx="1656000" cy="1151640"/>
          </a:xfrm>
        </p:grpSpPr>
        <p:sp>
          <p:nvSpPr>
            <p:cNvPr id="129" name=""/>
            <p:cNvSpPr/>
            <p:nvPr/>
          </p:nvSpPr>
          <p:spPr>
            <a:xfrm flipH="1" flipV="1">
              <a:off x="1042920" y="3213000"/>
              <a:ext cx="433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1724040" y="2695320"/>
              <a:ext cx="4334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00000" y="325908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79640" y="244476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36520" y="3716280"/>
                <a:ext cx="847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995640" y="2565360"/>
                <a:ext cx="12398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67200" y="3540240"/>
                <a:ext cx="12096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6" name=""/>
          <p:cNvGrpSpPr/>
          <p:nvPr/>
        </p:nvGrpSpPr>
        <p:grpSpPr>
          <a:xfrm>
            <a:off x="3859200" y="3443400"/>
            <a:ext cx="1454040" cy="1138680"/>
            <a:chOff x="3859200" y="3443400"/>
            <a:chExt cx="1454040" cy="1138680"/>
          </a:xfrm>
        </p:grpSpPr>
        <p:sp>
          <p:nvSpPr>
            <p:cNvPr id="137" name=""/>
            <p:cNvSpPr/>
            <p:nvPr/>
          </p:nvSpPr>
          <p:spPr>
            <a:xfrm flipV="1">
              <a:off x="4041720" y="3705120"/>
              <a:ext cx="360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724280" y="4189320"/>
              <a:ext cx="360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59200" y="34434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52880" y="424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865680" y="3419640"/>
            <a:ext cx="1655280" cy="1151640"/>
            <a:chOff x="3865680" y="3419640"/>
            <a:chExt cx="1655280" cy="1151640"/>
          </a:xfrm>
        </p:grpSpPr>
        <p:sp>
          <p:nvSpPr>
            <p:cNvPr id="142" name=""/>
            <p:cNvSpPr/>
            <p:nvPr/>
          </p:nvSpPr>
          <p:spPr>
            <a:xfrm flipH="1" flipV="1">
              <a:off x="4007880" y="4187880"/>
              <a:ext cx="4330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4689000" y="3670200"/>
              <a:ext cx="4330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65680" y="423396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44960" y="341964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995640" y="4653000"/>
                <a:ext cx="1121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732720" y="2349360"/>
                <a:ext cx="1089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6659640" y="3357720"/>
                <a:ext cx="13906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659640" y="4365720"/>
                <a:ext cx="14205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020000" y="5373720"/>
                <a:ext cx="7254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ions Non cal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09680" y="1457280"/>
                <a:ext cx="18144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254400" y="1378080"/>
                <a:ext cx="21337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192720" y="1366920"/>
                <a:ext cx="18511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001880" y="2565360"/>
                <a:ext cx="12096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6" name=""/>
          <p:cNvGrpSpPr/>
          <p:nvPr/>
        </p:nvGrpSpPr>
        <p:grpSpPr>
          <a:xfrm>
            <a:off x="885960" y="2468520"/>
            <a:ext cx="1454040" cy="1139040"/>
            <a:chOff x="885960" y="2468520"/>
            <a:chExt cx="1454040" cy="1139040"/>
          </a:xfrm>
        </p:grpSpPr>
        <p:sp>
          <p:nvSpPr>
            <p:cNvPr id="157" name=""/>
            <p:cNvSpPr/>
            <p:nvPr/>
          </p:nvSpPr>
          <p:spPr>
            <a:xfrm flipV="1">
              <a:off x="1068480" y="273024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751040" y="321444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5960" y="24685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79640" y="32702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900000" y="2444760"/>
            <a:ext cx="1656000" cy="1151640"/>
            <a:chOff x="900000" y="2444760"/>
            <a:chExt cx="1656000" cy="1151640"/>
          </a:xfrm>
        </p:grpSpPr>
        <p:sp>
          <p:nvSpPr>
            <p:cNvPr id="162" name=""/>
            <p:cNvSpPr/>
            <p:nvPr/>
          </p:nvSpPr>
          <p:spPr>
            <a:xfrm flipH="1" flipV="1">
              <a:off x="1042920" y="3213000"/>
              <a:ext cx="433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1724040" y="2695320"/>
              <a:ext cx="4334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00000" y="325908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79640" y="244476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942840" y="3716280"/>
                <a:ext cx="11811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086360" y="2565360"/>
                <a:ext cx="10573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057560" y="3540240"/>
                <a:ext cx="10288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9" name=""/>
          <p:cNvGrpSpPr/>
          <p:nvPr/>
        </p:nvGrpSpPr>
        <p:grpSpPr>
          <a:xfrm>
            <a:off x="3859200" y="3443400"/>
            <a:ext cx="1454040" cy="1138680"/>
            <a:chOff x="3859200" y="3443400"/>
            <a:chExt cx="1454040" cy="1138680"/>
          </a:xfrm>
        </p:grpSpPr>
        <p:sp>
          <p:nvSpPr>
            <p:cNvPr id="170" name=""/>
            <p:cNvSpPr/>
            <p:nvPr/>
          </p:nvSpPr>
          <p:spPr>
            <a:xfrm flipV="1">
              <a:off x="4041720" y="3705120"/>
              <a:ext cx="360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724280" y="4189320"/>
              <a:ext cx="360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59200" y="34434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424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65680" y="3419640"/>
            <a:ext cx="1655280" cy="1151640"/>
            <a:chOff x="3865680" y="3419640"/>
            <a:chExt cx="1655280" cy="1151640"/>
          </a:xfrm>
        </p:grpSpPr>
        <p:sp>
          <p:nvSpPr>
            <p:cNvPr id="175" name=""/>
            <p:cNvSpPr/>
            <p:nvPr/>
          </p:nvSpPr>
          <p:spPr>
            <a:xfrm flipH="1" flipV="1">
              <a:off x="4007880" y="4187880"/>
              <a:ext cx="4330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4689000" y="3670200"/>
              <a:ext cx="4330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5680" y="423396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44960" y="341964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995640" y="4653000"/>
                <a:ext cx="1121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702480" y="2349360"/>
                <a:ext cx="11491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599160" y="3357720"/>
                <a:ext cx="15112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020000" y="4365720"/>
                <a:ext cx="7556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020000" y="5373720"/>
                <a:ext cx="7254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9480" y="1371600"/>
            <a:ext cx="3809880" cy="2151720"/>
            <a:chOff x="609480" y="1371600"/>
            <a:chExt cx="3809880" cy="2151720"/>
          </a:xfrm>
        </p:grpSpPr>
        <p:sp>
          <p:nvSpPr>
            <p:cNvPr id="186" name=""/>
            <p:cNvSpPr/>
            <p:nvPr/>
          </p:nvSpPr>
          <p:spPr>
            <a:xfrm>
              <a:off x="609480" y="2454480"/>
              <a:ext cx="380880" cy="59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81080" y="1371600"/>
              <a:ext cx="1218960" cy="1676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90360" y="253044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00040" y="198144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9480" y="30481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312444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8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105520" y="990720"/>
            <a:ext cx="3657600" cy="3202200"/>
            <a:chOff x="5105520" y="990720"/>
            <a:chExt cx="3657600" cy="3202200"/>
          </a:xfrm>
        </p:grpSpPr>
        <p:sp>
          <p:nvSpPr>
            <p:cNvPr id="193" name=""/>
            <p:cNvSpPr/>
            <p:nvPr/>
          </p:nvSpPr>
          <p:spPr>
            <a:xfrm>
              <a:off x="6553080" y="249876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5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95880" y="379404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5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05520" y="318456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y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21337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6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67280" y="3124080"/>
              <a:ext cx="1371600" cy="609840"/>
            </a:xfrm>
            <a:prstGeom prst="rtTriangl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91320" y="990720"/>
              <a:ext cx="2971800" cy="1523880"/>
            </a:xfrm>
            <a:prstGeom prst="rtTriangl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05520" y="166068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6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600200" y="4343400"/>
                <a:ext cx="10666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522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l s.f.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682720" y="4343400"/>
                <a:ext cx="746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914400" y="5257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4 × 5 = 2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248520" y="4316400"/>
                <a:ext cx="10666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4800600" y="4495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 s.f.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391520" y="4303800"/>
                <a:ext cx="14922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5486400" y="5257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 = 0.333. × 6 = 2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500"/>
                            </p:stCondLst>
                            <p:childTnLst>
                              <p:par>
                                <p:cTn id="48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 1 Find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209680" y="1066680"/>
            <a:ext cx="4419720" cy="2380320"/>
            <a:chOff x="2209680" y="1066680"/>
            <a:chExt cx="4419720" cy="2380320"/>
          </a:xfrm>
        </p:grpSpPr>
        <p:sp>
          <p:nvSpPr>
            <p:cNvPr id="210" name=""/>
            <p:cNvSpPr/>
            <p:nvPr/>
          </p:nvSpPr>
          <p:spPr>
            <a:xfrm>
              <a:off x="2209680" y="2133720"/>
              <a:ext cx="68580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86200" y="1066680"/>
              <a:ext cx="1523880" cy="19814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23623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0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10080" y="1889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40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0" y="30481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 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43400" y="30481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2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517920" y="4316400"/>
                <a:ext cx="10414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2057400" y="4495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 s.f.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578480" y="4321080"/>
                <a:ext cx="10951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2819520" y="5257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0.5 × 22 = 1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2:00:39Z</dcterms:created>
  <dc:creator>Graeme Cowie</dc:creator>
  <dc:description/>
  <dc:language>en-US</dc:language>
  <cp:lastModifiedBy>smbcowiegr</cp:lastModifiedBy>
  <dcterms:modified xsi:type="dcterms:W3CDTF">2007-02-27T11:29:23Z</dcterms:modified>
  <cp:revision>4</cp:revision>
  <dc:subject/>
  <dc:title>Credit Maths </dc:title>
</cp:coreProperties>
</file>